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1A24-D94E-4237-BEA8-7563D2850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279D-A9F7-4D10-9479-7807F259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0869-E802-4D6F-BB9B-F9F2C4D8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884F-DEEC-45CF-8C84-24018AD36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2BC86-D6CE-43EA-BB45-563CA18300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1FBCC-90CC-4F69-AAB1-49DCC60B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DB65D-8DB8-418B-AD6A-B1AE258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5FACF-3FA3-4AF4-AE03-0E8C28A8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DAE27-BE86-465E-A877-A548CA24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14BAB-7E0C-4C6E-B6CC-3C9712E7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92A0E-BE62-49E6-9A8A-DD5A7A03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2741-1E44-4A3B-9C2B-49D9980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79E15-74C2-444F-8F5D-A3D0F1F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3A588-6B87-423E-908A-9B3F801D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F29CE-510B-4432-BCC7-B086D7C4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806E9-A948-4B62-9DCF-A03E19F3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A1976-FE51-40C1-B8C0-D6C2482D5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E770-F14A-4AB3-8316-E1E567487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B975-8915-4318-9C84-E96CBCD9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5608-8DFD-40C5-A8E7-58758B50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DFA-9262-41DE-A97F-80F841E6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4DFE-41E4-4E57-925F-6E86E402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E4D5-19D2-4990-9CB2-F01E17E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AD74-A7A0-4415-A478-AEBBB286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FB58-850F-46FA-A6FB-72B2F648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D00B-E7C9-4599-8052-07306D07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DC9-5AED-47DA-A091-A2C02C2E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F77C-23E3-4C92-8CE1-B1D28B87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11B7-326E-43E2-9705-353E7F30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CC69-8DF8-4A1B-950F-A4C761F1FA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C3A36-ECCE-4DD1-9693-549B7412B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BBA8F-1558-416C-A214-63AF645C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A8EF8-3328-4C32-94CA-CDCC8C52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1C26-C8B9-4F78-8F5E-04F089F3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2C929-113E-45C6-8D59-DB68115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8CD7A-18BC-4529-A748-954CC83D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E15E3-FF2A-4B15-AF43-127478A6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44953-0892-4DEF-B8F1-8B42BE6A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2B77F-35C2-452C-8874-04C99DB0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4F255-A059-4B44-B031-5531BA06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577A3-1FC7-49B4-AA4F-E177A7F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AC91D-8AE5-4D25-84AC-6803D08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10E94-3162-4836-9082-5DEC2382D5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D6866-4B0D-49E0-B80C-ED0D0AED2B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52D5-7B5D-4067-A6D2-B7CBE34C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D3F8B-87AB-4650-9E9E-2D9BDBA6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A655E-B0BC-4AC9-A9E8-2E6C12E1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003AD-1089-43E9-817C-083CBD1B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5DA1E-DA30-4955-964C-63C65E38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17610-9640-43EA-9462-4C7BB888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D884F-0180-49F8-AC78-57D7D43E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44DE1-AE40-448E-96C5-C9AD8C37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51FCE-DDDB-403C-83D6-39E8D7B9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6F010-E48E-4E1A-8021-9A3D7FB8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47EEC-C902-4188-AC72-580F44C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C324-97B7-43F5-951F-B66BAEB2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3EA89-5902-4E56-BF41-DA51A9C92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DC23-6D9D-4E81-9057-37C1129C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4F92-8A8E-43FB-A74C-0A963150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C539-EFB0-470C-964A-24366AEA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7AEC04-AAA1-4D76-AEF3-4B52D0FBB20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2C1F6E-C2B1-40AF-913E-5DDD86D9123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600" y="66600"/>
            <a:ext cx="9015480" cy="6697800"/>
            <a:chOff x="66600" y="66600"/>
            <a:chExt cx="9015480" cy="66978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548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18560" cy="64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1BA6E7-ACD4-4702-AD38-86703D0BFB2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8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FF9A4A-1CC3-4AFD-982C-336FDE38F9C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9277AB-3D68-497B-AA08-18D301A7643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529240" y="5815080"/>
            <a:ext cx="3411720" cy="749160"/>
            <a:chOff x="5529240" y="5815080"/>
            <a:chExt cx="3411720" cy="7491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5529240" y="5815080"/>
              <a:ext cx="34117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580000" y="5857920"/>
              <a:ext cx="3311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Муниципальное предприятие  </a:t>
              </a:r>
              <a:endParaRPr b="0" lang="en-US" sz="15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г. Новошахтинска МП «ККТС»</a:t>
              </a:r>
              <a:endParaRPr b="0" lang="en-US" sz="15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57200" y="150660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АКТУАЛИЗАЦИЯ СХЕМЫ ТЕПЛОСНАБЖЕНИЯ</a:t>
            </a:r>
            <a:br>
              <a:rPr sz="29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ГОРОДА НОВОШАХТИНСК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а период до 2035 го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571920" y="3143160"/>
            <a:ext cx="19288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593120" y="1904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91960" y="5310360"/>
            <a:ext cx="8607600" cy="1103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55520" y="190440"/>
            <a:ext cx="7153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реконструкции тепловых сетей (сценарий 2: при условии реализации инвестиционной программы                                                        на базе МП «ККТС», 7 лет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"/>
          <p:cNvSpPr/>
          <p:nvPr/>
        </p:nvSpPr>
        <p:spPr>
          <a:xfrm>
            <a:off x="19080" y="35845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"/>
          <p:cNvSpPr/>
          <p:nvPr/>
        </p:nvSpPr>
        <p:spPr>
          <a:xfrm>
            <a:off x="1320840" y="325764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"/>
          <p:cNvSpPr/>
          <p:nvPr/>
        </p:nvSpPr>
        <p:spPr>
          <a:xfrm>
            <a:off x="2635200" y="2936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"/>
          <p:cNvSpPr/>
          <p:nvPr/>
        </p:nvSpPr>
        <p:spPr>
          <a:xfrm>
            <a:off x="3882960" y="26319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"/>
          <p:cNvSpPr/>
          <p:nvPr/>
        </p:nvSpPr>
        <p:spPr>
          <a:xfrm>
            <a:off x="7907400" y="16747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"/>
          <p:cNvSpPr/>
          <p:nvPr/>
        </p:nvSpPr>
        <p:spPr>
          <a:xfrm>
            <a:off x="5248440" y="230364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"/>
          <p:cNvSpPr/>
          <p:nvPr/>
        </p:nvSpPr>
        <p:spPr>
          <a:xfrm>
            <a:off x="6529320" y="197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6000" y="4071960"/>
            <a:ext cx="1144440" cy="1336680"/>
            <a:chOff x="216000" y="4071960"/>
            <a:chExt cx="1144440" cy="1336680"/>
          </a:xfrm>
        </p:grpSpPr>
        <p:sp>
          <p:nvSpPr>
            <p:cNvPr id="346" name=""/>
            <p:cNvSpPr/>
            <p:nvPr/>
          </p:nvSpPr>
          <p:spPr>
            <a:xfrm>
              <a:off x="266760" y="4108320"/>
              <a:ext cx="109368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6000" y="4071960"/>
              <a:ext cx="109368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406520" y="369108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52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5,54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"/>
          <p:cNvSpPr/>
          <p:nvPr/>
        </p:nvSpPr>
        <p:spPr>
          <a:xfrm>
            <a:off x="2749680" y="335448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177,5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3,798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"/>
          <p:cNvSpPr/>
          <p:nvPr/>
        </p:nvSpPr>
        <p:spPr>
          <a:xfrm>
            <a:off x="5337000" y="2722680"/>
            <a:ext cx="11862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709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63,371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"/>
          <p:cNvSpPr/>
          <p:nvPr/>
        </p:nvSpPr>
        <p:spPr>
          <a:xfrm>
            <a:off x="6616800" y="237816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855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51,406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55520" y="2004840"/>
            <a:ext cx="8880480" cy="3094200"/>
            <a:chOff x="155520" y="2004840"/>
            <a:chExt cx="8880480" cy="3094200"/>
          </a:xfrm>
        </p:grpSpPr>
        <p:sp>
          <p:nvSpPr>
            <p:cNvPr id="353" name=""/>
            <p:cNvSpPr/>
            <p:nvPr/>
          </p:nvSpPr>
          <p:spPr>
            <a:xfrm rot="5400000">
              <a:off x="357120" y="3719520"/>
              <a:ext cx="690480" cy="1093680"/>
            </a:xfrm>
            <a:custGeom>
              <a:avLst/>
              <a:gdLst/>
              <a:ahLst/>
              <a:rect l="l" t="t" r="r" b="b"/>
              <a:pathLst>
                <a:path w="692412" h="1075493">
                  <a:moveTo>
                    <a:pt x="0" y="0"/>
                  </a:moveTo>
                  <a:lnTo>
                    <a:pt x="111548" y="0"/>
                  </a:lnTo>
                  <a:lnTo>
                    <a:pt x="111548" y="963876"/>
                  </a:lnTo>
                  <a:lnTo>
                    <a:pt x="692412" y="963876"/>
                  </a:lnTo>
                  <a:lnTo>
                    <a:pt x="692412" y="1075493"/>
                  </a:lnTo>
                  <a:lnTo>
                    <a:pt x="0" y="1075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6000" y="4189320"/>
              <a:ext cx="1057320" cy="9097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8760" y="3578400"/>
              <a:ext cx="1987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1621440" y="3337560"/>
              <a:ext cx="688680" cy="1170000"/>
            </a:xfrm>
            <a:custGeom>
              <a:avLst/>
              <a:gdLst/>
              <a:ahLst/>
              <a:rect l="l" t="t" r="r" b="b"/>
              <a:pathLst>
                <a:path w="690824" h="1150309">
                  <a:moveTo>
                    <a:pt x="0" y="0"/>
                  </a:moveTo>
                  <a:lnTo>
                    <a:pt x="111292" y="0"/>
                  </a:lnTo>
                  <a:lnTo>
                    <a:pt x="111292" y="1038948"/>
                  </a:lnTo>
                  <a:lnTo>
                    <a:pt x="690824" y="1038948"/>
                  </a:lnTo>
                  <a:lnTo>
                    <a:pt x="690824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95440" y="3692520"/>
              <a:ext cx="105732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5840" y="3263760"/>
              <a:ext cx="1969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2917080" y="3023280"/>
              <a:ext cx="689040" cy="1170000"/>
            </a:xfrm>
            <a:custGeom>
              <a:avLst/>
              <a:gdLst/>
              <a:ahLst/>
              <a:rect l="l" t="t" r="r" b="b"/>
              <a:pathLst>
                <a:path w="690824" h="1150309">
                  <a:moveTo>
                    <a:pt x="0" y="0"/>
                  </a:moveTo>
                  <a:lnTo>
                    <a:pt x="111292" y="0"/>
                  </a:lnTo>
                  <a:lnTo>
                    <a:pt x="111292" y="1038948"/>
                  </a:lnTo>
                  <a:lnTo>
                    <a:pt x="690824" y="1038948"/>
                  </a:lnTo>
                  <a:lnTo>
                    <a:pt x="690824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2520" y="3378240"/>
              <a:ext cx="105552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51120" y="2949480"/>
              <a:ext cx="1969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4210920" y="2707560"/>
              <a:ext cx="690480" cy="1171440"/>
            </a:xfrm>
            <a:custGeom>
              <a:avLst/>
              <a:gdLst/>
              <a:ahLst/>
              <a:rect l="l" t="t" r="r" b="b"/>
              <a:pathLst>
                <a:path w="692412" h="1151868">
                  <a:moveTo>
                    <a:pt x="0" y="0"/>
                  </a:moveTo>
                  <a:lnTo>
                    <a:pt x="111548" y="0"/>
                  </a:lnTo>
                  <a:lnTo>
                    <a:pt x="111548" y="1040251"/>
                  </a:lnTo>
                  <a:lnTo>
                    <a:pt x="692412" y="1040251"/>
                  </a:lnTo>
                  <a:lnTo>
                    <a:pt x="692412" y="1151868"/>
                  </a:lnTo>
                  <a:lnTo>
                    <a:pt x="0" y="11518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17960" y="3068640"/>
              <a:ext cx="1171440" cy="909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t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1699,4 тр.м.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40,131 млн.руб.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44960" y="2633760"/>
              <a:ext cx="200160" cy="19512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506920" y="2395440"/>
              <a:ext cx="690480" cy="1170000"/>
            </a:xfrm>
            <a:custGeom>
              <a:avLst/>
              <a:gdLst/>
              <a:ahLst/>
              <a:rect l="l" t="t" r="r" b="b"/>
              <a:pathLst>
                <a:path w="692412" h="1150309">
                  <a:moveTo>
                    <a:pt x="0" y="0"/>
                  </a:moveTo>
                  <a:lnTo>
                    <a:pt x="111548" y="0"/>
                  </a:lnTo>
                  <a:lnTo>
                    <a:pt x="111548" y="1038692"/>
                  </a:lnTo>
                  <a:lnTo>
                    <a:pt x="692412" y="1038692"/>
                  </a:lnTo>
                  <a:lnTo>
                    <a:pt x="692412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83080" y="2747880"/>
              <a:ext cx="1055880" cy="9097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2040" y="2319480"/>
              <a:ext cx="196920" cy="19512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6802560" y="2081160"/>
              <a:ext cx="690480" cy="1170000"/>
            </a:xfrm>
            <a:custGeom>
              <a:avLst/>
              <a:gdLst/>
              <a:ahLst/>
              <a:rect l="l" t="t" r="r" b="b"/>
              <a:pathLst>
                <a:path w="692412" h="1150309">
                  <a:moveTo>
                    <a:pt x="0" y="0"/>
                  </a:moveTo>
                  <a:lnTo>
                    <a:pt x="111548" y="0"/>
                  </a:lnTo>
                  <a:lnTo>
                    <a:pt x="111548" y="1038692"/>
                  </a:lnTo>
                  <a:lnTo>
                    <a:pt x="692412" y="1038692"/>
                  </a:lnTo>
                  <a:lnTo>
                    <a:pt x="692412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78720" y="2433600"/>
              <a:ext cx="105552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37320" y="2004840"/>
              <a:ext cx="1969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8105400" y="1768320"/>
              <a:ext cx="690840" cy="1170000"/>
            </a:xfrm>
            <a:custGeom>
              <a:avLst/>
              <a:gdLst/>
              <a:ahLst/>
              <a:rect l="l" t="t" r="r" b="b"/>
              <a:pathLst>
                <a:path w="692412" h="1150309">
                  <a:moveTo>
                    <a:pt x="0" y="0"/>
                  </a:moveTo>
                  <a:lnTo>
                    <a:pt x="111548" y="0"/>
                  </a:lnTo>
                  <a:lnTo>
                    <a:pt x="111548" y="1038692"/>
                  </a:lnTo>
                  <a:lnTo>
                    <a:pt x="692412" y="1038692"/>
                  </a:lnTo>
                  <a:lnTo>
                    <a:pt x="692412" y="1150309"/>
                  </a:lnTo>
                  <a:lnTo>
                    <a:pt x="0" y="1150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74000" y="2119320"/>
              <a:ext cx="105732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958160" y="211788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037,7 тр.м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9,437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50920" y="189000"/>
            <a:ext cx="8678880" cy="8636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Удельный расход условного топлива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на отпуск тепловой энергии, кг.у.т./Гкал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09440" y="1054080"/>
            <a:ext cx="8894880" cy="482292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326880" y="6021360"/>
            <a:ext cx="8428320" cy="620640"/>
            <a:chOff x="326880" y="6021360"/>
            <a:chExt cx="8428320" cy="620640"/>
          </a:xfrm>
        </p:grpSpPr>
        <p:sp>
          <p:nvSpPr>
            <p:cNvPr id="377" name=""/>
            <p:cNvSpPr/>
            <p:nvPr/>
          </p:nvSpPr>
          <p:spPr>
            <a:xfrm>
              <a:off x="326880" y="6021360"/>
              <a:ext cx="8428320" cy="620640"/>
            </a:xfrm>
            <a:prstGeom prst="roundRect">
              <a:avLst>
                <a:gd name="adj" fmla="val 16667"/>
              </a:avLst>
            </a:prstGeom>
            <a:solidFill>
              <a:srgbClr val="d3481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7120" y="6051600"/>
              <a:ext cx="8367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mbria"/>
                </a:rPr>
                <a:t>Целевой показатель: </a:t>
              </a:r>
              <a:endParaRPr b="0" lang="en-US" sz="1600" spc="-1" strike="noStrike">
                <a:solidFill>
                  <a:srgbClr val="000000"/>
                </a:solidFill>
                <a:latin typeface="Perpetua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mbria"/>
                </a:rPr>
                <a:t>сокращение удельного расхода условного топлива с 164,3 до 157,9 кг.у.т./Гкал</a:t>
              </a:r>
              <a:endParaRPr b="0" lang="en-US" sz="1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08000" y="189000"/>
            <a:ext cx="8928000" cy="79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Объем потерь при передаче тепловой энерг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от котельных МП «ККТС», Гкал/го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28680" y="6059520"/>
            <a:ext cx="8461440" cy="7063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09440" y="1054080"/>
            <a:ext cx="90709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8000" y="189000"/>
            <a:ext cx="8928000" cy="576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Удельный расход электроэнергии, кВтч/Гкал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28680" y="6059520"/>
            <a:ext cx="8461440" cy="7063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09440" y="835200"/>
            <a:ext cx="8925120" cy="51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5360" y="1073160"/>
            <a:ext cx="4108680" cy="5145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5840" y="142920"/>
            <a:ext cx="8572320" cy="785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СУЩЕСТВУЮЩИЕ ПРОБЛЕМЫ СИСТЕМЫ ТЕПЛОСНАБЖ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МП «ККТС»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929120" y="1071720"/>
            <a:ext cx="3929040" cy="228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765680" y="3286080"/>
            <a:ext cx="40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пловая сеть от котельной по ул. Радио 84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929120" y="3789360"/>
            <a:ext cx="3564000" cy="2425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762800" y="6215040"/>
            <a:ext cx="38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Угольная котельная по ул. Пичугина 20а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79440" y="3935520"/>
            <a:ext cx="3960720" cy="2609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472000" y="365040"/>
            <a:ext cx="3024360" cy="3224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11040" y="708120"/>
            <a:ext cx="4019760" cy="2881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2880" y="3417840"/>
            <a:ext cx="4011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оительство БМК  ул. Пичугина, 20 Б, 2020 г.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"/>
          <p:cNvSpPr/>
          <p:nvPr/>
        </p:nvSpPr>
        <p:spPr>
          <a:xfrm>
            <a:off x="4910040" y="3581280"/>
            <a:ext cx="4078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роительство</a:t>
            </a:r>
            <a:r>
              <a:rPr b="1" lang="ru-RU" sz="1400" spc="-1" strike="noStrike">
                <a:solidFill>
                  <a:srgbClr val="d34817"/>
                </a:solidFill>
                <a:latin typeface="Cambr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БМК  ул. Коперника, 8 В, 2020 г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01600" y="6480"/>
            <a:ext cx="8739360" cy="803160"/>
            <a:chOff x="201600" y="6480"/>
            <a:chExt cx="8739360" cy="803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201600" y="6480"/>
              <a:ext cx="873936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24000" y="115920"/>
              <a:ext cx="84945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Применение новых технологий</a:t>
              </a:r>
              <a:endParaRPr b="0" lang="en-US" sz="2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145120" y="3935520"/>
            <a:ext cx="35226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4200" y="214200"/>
            <a:ext cx="8786880" cy="9828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  <a:ea typeface="Arial"/>
              </a:rPr>
              <a:t>ПРЕДЛОЖЕНИЯ ПО АКТУАЛИЗАЦИИ СХЕМЫ ТЕПЛОСНАБЖЕНИЯ г. НОВОШАХТИНСКА до 2035 г.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557360"/>
            <a:ext cx="8496000" cy="345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Char char=""/>
              <a:tabLst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Рассмотрены 2 сценарных варианта развития системы теплоснабжения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 –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заключения концессионного соглашения, срок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реализации с 2021 г. по 2024 г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–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реализации инвестиционной программы на базе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МП «ККТС», срок реализации с 2020 г. по 2026 г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16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1280" indent="-3412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Char char=""/>
              <a:tabLst>
                <a:tab algn="l" pos="981000"/>
                <a:tab algn="l" pos="1895400"/>
                <a:tab algn="l" pos="2809800"/>
                <a:tab algn="l" pos="3724200"/>
                <a:tab algn="l" pos="4638600"/>
                <a:tab algn="l" pos="5553000"/>
                <a:tab algn="l" pos="6467400"/>
                <a:tab algn="l" pos="7381800"/>
                <a:tab algn="l" pos="8296200"/>
                <a:tab algn="l" pos="9210600"/>
                <a:tab algn="l" pos="101250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о котельным МП «ККТС» с 2021 откорректирован объем полезного отпуска (с учётом фактических данных за 3 предыдущих расчетных периода регулирования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4200" y="214200"/>
            <a:ext cx="8715600" cy="5000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  <a:ea typeface="Arial"/>
              </a:rPr>
              <a:t>МЕРПОРИЯТИЯ  ПО МОДЕРНИЗАЦИИ ИСТОЧНИКОВ ТЕПЛОСНАБЖЕНИЯ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1000080"/>
            <a:ext cx="8572320" cy="514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дернизация всех угольных котельных переводом на природный газ с установкой автономных газовых модульных котельных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При условии заключения концессионного соглашения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модернизация 14 котельных с установкой блочно-модульных                                                                                                     котельных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строительство 2 блочно-модульных котельных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реализации инвестиционной программы на базе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14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МП «ККТС»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модернизация 20 котельных с установкой блочно-модульных                                                                                                     котельных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34817"/>
              </a:buClr>
              <a:buSzPct val="85000"/>
              <a:buFont typeface="Cambria"/>
              <a:buChar char="-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строительство 2 блочно-модульных котельных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5840" y="142920"/>
            <a:ext cx="8572320" cy="44136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МЕРПОРИЯТИЯ ПО МОДЕРНИЗАЦИИ ТЕПЛОВЫХ СЕТЕЙ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"/>
          <p:cNvSpPr/>
          <p:nvPr/>
        </p:nvSpPr>
        <p:spPr>
          <a:xfrm>
            <a:off x="285840" y="714240"/>
            <a:ext cx="8572320" cy="206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Реконструкция теплотрасс с применением труб в ППУ-изоляци: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271440" indent="-27144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заключения концессионного соглашения – 3702 тр.м;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при условии реализации инвестиционной программы на базе МП «ККТС» 9830 тр.м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  <a:ea typeface="Arial"/>
              </a:rPr>
              <a:t>Сокращение диаметров теплотрасс  за счет сокращения радиуса теплоснабжения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/>
          <p:nvPr/>
        </p:nvSpPr>
        <p:spPr>
          <a:xfrm>
            <a:off x="285840" y="3141720"/>
            <a:ext cx="25765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85840" y="2954160"/>
            <a:ext cx="2773440" cy="3508560"/>
          </a:xfrm>
          <a:prstGeom prst="rect">
            <a:avLst/>
          </a:prstGeom>
          <a:ln w="12600">
            <a:solidFill>
              <a:srgbClr val="d34817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3418920" y="6424560"/>
            <a:ext cx="219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mbria"/>
                <a:ea typeface="Times New Roman"/>
              </a:rPr>
              <a:t>Трубы в ППУ-изоляции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348000" y="2913120"/>
            <a:ext cx="54720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9440" y="1487520"/>
            <a:ext cx="8967960" cy="3975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224840" y="2201760"/>
            <a:ext cx="167148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 котельные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9,656 млн.руб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593120" y="190440"/>
            <a:ext cx="1296720" cy="1295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12720" y="30193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627280" y="2538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/>
          <p:nvPr/>
        </p:nvSpPr>
        <p:spPr>
          <a:xfrm>
            <a:off x="4829040" y="20858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"/>
          <p:cNvSpPr/>
          <p:nvPr/>
        </p:nvSpPr>
        <p:spPr>
          <a:xfrm>
            <a:off x="7550280" y="1566720"/>
            <a:ext cx="13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91960" y="5310360"/>
            <a:ext cx="8602920" cy="1103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08000" y="190440"/>
            <a:ext cx="7338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строительству, реконструкции и техническому перевооружению котельных (сценарий 1: при условии заключения концессионного соглашения, 4 год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9440" y="1487520"/>
            <a:ext cx="8925120" cy="397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093080" y="21686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125 тр.м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6,285 млн.руб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7593120" y="190440"/>
            <a:ext cx="1296720" cy="1295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12720" y="3019320"/>
            <a:ext cx="16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627280" y="2538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"/>
          <p:cNvSpPr/>
          <p:nvPr/>
        </p:nvSpPr>
        <p:spPr>
          <a:xfrm>
            <a:off x="4829040" y="20858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"/>
          <p:cNvSpPr/>
          <p:nvPr/>
        </p:nvSpPr>
        <p:spPr>
          <a:xfrm>
            <a:off x="7407360" y="15494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291960" y="5340240"/>
            <a:ext cx="8607600" cy="1139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08000" y="190440"/>
            <a:ext cx="712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реконструкции тепловых сетей (сценарий 1: при условии заключения концессионного соглашения, 4 года.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593120" y="1904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91960" y="5297400"/>
            <a:ext cx="8607600" cy="1103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5520" y="190440"/>
            <a:ext cx="715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Cambria"/>
              </a:rPr>
              <a:t>Мероприятия по строительству, реконструкции и техническому перевооружению котельных (сценарий 2: при условии реализации инвестиционной программы                                                        на базе МП «ККТС», 7 лет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"/>
          <p:cNvSpPr/>
          <p:nvPr/>
        </p:nvSpPr>
        <p:spPr>
          <a:xfrm>
            <a:off x="39600" y="3564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"/>
          <p:cNvSpPr/>
          <p:nvPr/>
        </p:nvSpPr>
        <p:spPr>
          <a:xfrm>
            <a:off x="1365120" y="3240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"/>
          <p:cNvSpPr/>
          <p:nvPr/>
        </p:nvSpPr>
        <p:spPr>
          <a:xfrm>
            <a:off x="2646360" y="292896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"/>
          <p:cNvSpPr/>
          <p:nvPr/>
        </p:nvSpPr>
        <p:spPr>
          <a:xfrm>
            <a:off x="3941640" y="260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"/>
          <p:cNvSpPr/>
          <p:nvPr/>
        </p:nvSpPr>
        <p:spPr>
          <a:xfrm>
            <a:off x="7729560" y="16621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"/>
          <p:cNvSpPr/>
          <p:nvPr/>
        </p:nvSpPr>
        <p:spPr>
          <a:xfrm>
            <a:off x="5189400" y="22813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/>
          <p:nvPr/>
        </p:nvSpPr>
        <p:spPr>
          <a:xfrm>
            <a:off x="6456240" y="19782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4057560"/>
            <a:ext cx="1292400" cy="1327320"/>
            <a:chOff x="0" y="4057560"/>
            <a:chExt cx="1292400" cy="1327320"/>
          </a:xfrm>
        </p:grpSpPr>
        <p:sp>
          <p:nvSpPr>
            <p:cNvPr id="303" name=""/>
            <p:cNvSpPr/>
            <p:nvPr/>
          </p:nvSpPr>
          <p:spPr>
            <a:xfrm>
              <a:off x="0" y="4265640"/>
              <a:ext cx="110484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7200" y="4057560"/>
              <a:ext cx="110520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2 котельные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29,991 млн.руб.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428840" y="372600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4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0,595 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38292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 котельные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2,245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"/>
          <p:cNvSpPr/>
          <p:nvPr/>
        </p:nvSpPr>
        <p:spPr>
          <a:xfrm>
            <a:off x="5235480" y="2759040"/>
            <a:ext cx="11858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3 котельные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19,927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"/>
          <p:cNvSpPr/>
          <p:nvPr/>
        </p:nvSpPr>
        <p:spPr>
          <a:xfrm>
            <a:off x="6499080" y="247824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 котельные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121,243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01160" y="2031840"/>
            <a:ext cx="8794800" cy="3094200"/>
            <a:chOff x="101160" y="2031840"/>
            <a:chExt cx="8794800" cy="3094200"/>
          </a:xfrm>
        </p:grpSpPr>
        <p:sp>
          <p:nvSpPr>
            <p:cNvPr id="310" name=""/>
            <p:cNvSpPr/>
            <p:nvPr/>
          </p:nvSpPr>
          <p:spPr>
            <a:xfrm rot="5400000">
              <a:off x="330480" y="371700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9">
                  <a:moveTo>
                    <a:pt x="0" y="0"/>
                  </a:moveTo>
                  <a:lnTo>
                    <a:pt x="111548" y="0"/>
                  </a:lnTo>
                  <a:lnTo>
                    <a:pt x="111548" y="1039232"/>
                  </a:lnTo>
                  <a:lnTo>
                    <a:pt x="692412" y="1039232"/>
                  </a:lnTo>
                  <a:lnTo>
                    <a:pt x="692412" y="1150849"/>
                  </a:lnTo>
                  <a:lnTo>
                    <a:pt x="0" y="1150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080" y="4216320"/>
              <a:ext cx="1038240" cy="9097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3800" y="3605040"/>
              <a:ext cx="19512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1609200" y="3376440"/>
              <a:ext cx="689040" cy="1149480"/>
            </a:xfrm>
            <a:custGeom>
              <a:avLst/>
              <a:gdLst/>
              <a:ahLst/>
              <a:rect l="l" t="t" r="r" b="b"/>
              <a:pathLst>
                <a:path w="690823" h="1150848">
                  <a:moveTo>
                    <a:pt x="0" y="0"/>
                  </a:moveTo>
                  <a:lnTo>
                    <a:pt x="111292" y="0"/>
                  </a:lnTo>
                  <a:lnTo>
                    <a:pt x="111292" y="1039487"/>
                  </a:lnTo>
                  <a:lnTo>
                    <a:pt x="690823" y="1039487"/>
                  </a:lnTo>
                  <a:lnTo>
                    <a:pt x="690823" y="1150848"/>
                  </a:lnTo>
                  <a:lnTo>
                    <a:pt x="0" y="1150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2200" y="3719520"/>
              <a:ext cx="103824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36760" y="3290760"/>
              <a:ext cx="19368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2880720" y="3062160"/>
              <a:ext cx="689040" cy="1149480"/>
            </a:xfrm>
            <a:custGeom>
              <a:avLst/>
              <a:gdLst/>
              <a:ahLst/>
              <a:rect l="l" t="t" r="r" b="b"/>
              <a:pathLst>
                <a:path w="690823" h="1150849">
                  <a:moveTo>
                    <a:pt x="0" y="0"/>
                  </a:moveTo>
                  <a:lnTo>
                    <a:pt x="111292" y="0"/>
                  </a:lnTo>
                  <a:lnTo>
                    <a:pt x="111292" y="1039488"/>
                  </a:lnTo>
                  <a:lnTo>
                    <a:pt x="690823" y="1039488"/>
                  </a:lnTo>
                  <a:lnTo>
                    <a:pt x="690823" y="1150849"/>
                  </a:lnTo>
                  <a:lnTo>
                    <a:pt x="0" y="1150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5520" y="3405240"/>
              <a:ext cx="103644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08280" y="2976480"/>
              <a:ext cx="19368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4151520" y="274536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8">
                  <a:moveTo>
                    <a:pt x="0" y="0"/>
                  </a:moveTo>
                  <a:lnTo>
                    <a:pt x="111548" y="0"/>
                  </a:lnTo>
                  <a:lnTo>
                    <a:pt x="111548" y="1039231"/>
                  </a:lnTo>
                  <a:lnTo>
                    <a:pt x="692412" y="1039231"/>
                  </a:lnTo>
                  <a:lnTo>
                    <a:pt x="692412" y="1150848"/>
                  </a:lnTo>
                  <a:lnTo>
                    <a:pt x="0" y="1150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05360" y="3084480"/>
              <a:ext cx="1103040" cy="909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t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4 котельных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169,617 млн.руб.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9800" y="2660760"/>
              <a:ext cx="195480" cy="19512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5424840" y="243108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8">
                  <a:moveTo>
                    <a:pt x="0" y="0"/>
                  </a:moveTo>
                  <a:lnTo>
                    <a:pt x="111548" y="0"/>
                  </a:lnTo>
                  <a:lnTo>
                    <a:pt x="111548" y="1039231"/>
                  </a:lnTo>
                  <a:lnTo>
                    <a:pt x="692412" y="1039231"/>
                  </a:lnTo>
                  <a:lnTo>
                    <a:pt x="692412" y="1150848"/>
                  </a:lnTo>
                  <a:lnTo>
                    <a:pt x="0" y="1150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10360" y="2774880"/>
              <a:ext cx="1036440" cy="9097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53120" y="2346480"/>
              <a:ext cx="193680" cy="19512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6696360" y="211680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9">
                  <a:moveTo>
                    <a:pt x="0" y="0"/>
                  </a:moveTo>
                  <a:lnTo>
                    <a:pt x="111548" y="0"/>
                  </a:lnTo>
                  <a:lnTo>
                    <a:pt x="111548" y="1039232"/>
                  </a:lnTo>
                  <a:lnTo>
                    <a:pt x="692412" y="1039232"/>
                  </a:lnTo>
                  <a:lnTo>
                    <a:pt x="692412" y="1150849"/>
                  </a:lnTo>
                  <a:lnTo>
                    <a:pt x="0" y="1150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81880" y="2460600"/>
              <a:ext cx="103644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24640" y="2031840"/>
              <a:ext cx="193680" cy="193680"/>
            </a:xfrm>
            <a:prstGeom prst="triangle">
              <a:avLst>
                <a:gd name="adj" fmla="val 100000"/>
              </a:avLst>
            </a:prstGeom>
            <a:solidFill>
              <a:srgbClr val="d34817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7975800" y="1803960"/>
              <a:ext cx="690480" cy="1149480"/>
            </a:xfrm>
            <a:custGeom>
              <a:avLst/>
              <a:gdLst/>
              <a:ahLst/>
              <a:rect l="l" t="t" r="r" b="b"/>
              <a:pathLst>
                <a:path w="692412" h="1150849">
                  <a:moveTo>
                    <a:pt x="0" y="0"/>
                  </a:moveTo>
                  <a:lnTo>
                    <a:pt x="111548" y="0"/>
                  </a:lnTo>
                  <a:lnTo>
                    <a:pt x="111548" y="1039232"/>
                  </a:lnTo>
                  <a:lnTo>
                    <a:pt x="692412" y="1039232"/>
                  </a:lnTo>
                  <a:lnTo>
                    <a:pt x="692412" y="1150849"/>
                  </a:lnTo>
                  <a:lnTo>
                    <a:pt x="0" y="1150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4817"/>
            </a:solidFill>
            <a:ln w="12600">
              <a:solidFill>
                <a:srgbClr val="d348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53400" y="2146320"/>
              <a:ext cx="1038240" cy="907920"/>
            </a:xfrm>
            <a:custGeom>
              <a:avLst/>
              <a:gdLst/>
              <a:ahLst/>
              <a:rect l="l" t="t" r="r" b="b"/>
              <a:pathLst>
                <a:path w="1039095" h="910828">
                  <a:moveTo>
                    <a:pt x="0" y="0"/>
                  </a:moveTo>
                  <a:lnTo>
                    <a:pt x="1039095" y="0"/>
                  </a:lnTo>
                  <a:lnTo>
                    <a:pt x="1039095" y="910828"/>
                  </a:lnTo>
                  <a:lnTo>
                    <a:pt x="0" y="9108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756560" y="2117880"/>
            <a:ext cx="1185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5 котельных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86,52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05:01:46Z</dcterms:created>
  <dc:creator>Максим</dc:creator>
  <dc:description/>
  <dc:language>en-US</dc:language>
  <cp:lastModifiedBy>пользователь</cp:lastModifiedBy>
  <cp:lastPrinted>2020-10-26T07:17:15Z</cp:lastPrinted>
  <dcterms:modified xsi:type="dcterms:W3CDTF">2020-10-26T07:17:51Z</dcterms:modified>
  <cp:revision>121</cp:revision>
  <dc:subject/>
  <dc:title>АКТУАЛИЗАЦИЯ СХЕМЫ ТЕПЛОСНАБЖЕНИЯ муниципального образования «города Новошахтинск» до 2031 года</dc:title>
</cp:coreProperties>
</file>