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6362-E961-471C-9636-EFBC15EC3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8573-3DF8-44DB-8888-B72384CE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6309-8402-4B58-832A-15B51C2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7D58-B37A-442F-8D52-F07482A7B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FE12A-D68A-46F1-AF48-79AC24B3A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C189C-F6C8-41C6-9209-3EBC6C5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72C55-B294-4675-8074-F17EDB7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9F66E-0474-4D16-8C71-CD7AA7A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7177D-4F9E-4851-A0DF-251F8300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7DAF-BC63-4780-9029-E9A8C20F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CF8A3-6115-4688-AC42-17869AF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3892-C1C6-4891-A04F-F98A474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301D0-0760-4C57-9AEC-9EFACD2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43F8F-8F0A-4ABE-9AF8-8583F17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57EAD-025D-4765-959E-CF0E4AD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B7281-3DA4-4E0D-850D-CA660B7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31DEF-3F3E-4B9E-8619-D7C6C8527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82DE-B0C2-4EDC-B211-2A6CB80FC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B530-2B3D-408E-9BB7-B0E9710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34D-5126-4D13-9478-8C7F37A9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F7E5-D3A7-4108-BF44-E4DF9BE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2687-A7EB-4A30-AF91-6D2B42F9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4BF9-88FA-44D7-ACB8-46EDA10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1A0-21D9-480F-B51C-0E081138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D856-8498-4AFC-A9B6-19DB3669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E8E2-0A97-424D-9D72-D0C7026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368-E0B2-4F45-B741-2871A89D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9C4D-AB3F-4E40-9DEA-19B5941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DA76-E0CB-45DD-A613-FD92092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546-36AA-4203-BF2A-B8D752A28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EC4A6-2FA1-43F9-902C-AAF099CFE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B1BCD-3E35-4FC5-9D7E-1DE1D6C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C72AB-0E51-49B6-B084-B97A728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4312-270D-41D9-AC3C-A8E175D0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1DDA6-9EB2-43ED-8BEB-D0D8A09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90307-F372-477A-BCE9-54821A2D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73507-CBCD-4C00-83AD-7C6D4E80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5E0E4-3F3D-4C8F-AE5D-58FA8AD5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D8DD8-93B6-4EAF-8640-ADDC700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22567-DB0B-41F2-A571-71CFFFF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9505A-CE54-406B-B002-C79166DD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E8883-A2B0-4E7B-AA92-A2C3D44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F1B67-B328-4F4B-BB9B-44B476830B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45BF9-0AD0-45C5-A63B-6F2365287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4E1C-6255-4251-B127-A76A5D1B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64294-72F7-4616-8864-90D037B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F7AE2-4A11-4E2D-9993-FA72B12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1BD18-C78F-48AE-A1D0-34D5198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EB42B-C549-4F8E-8F64-0C73A0CA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613AA-61D7-4AD1-8432-94D05ED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A3D45-94F5-4C65-9439-BBD1470A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6CC55-C75E-4C9D-A3D8-6A6F5BAD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4A8DD-2C49-4396-B4C8-99A4620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3F7E4-1376-4833-8416-02A93B0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C3046-A06A-4345-BCE4-8810D4A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2EFB-12AB-4A6C-B050-E004F6F0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EA45F-02DC-419D-B893-34CBC530A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8D69-F32A-4884-9671-E41215F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A291-BF00-4764-84F3-71BC442E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71E2-EB6A-432D-8FDF-3942A92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13842F-BAE0-4B92-AA70-C8728FEAB64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AB9CCB-5233-4181-A835-A6B5EC89F59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00" y="66600"/>
            <a:ext cx="9015480" cy="6697800"/>
            <a:chOff x="66600" y="66600"/>
            <a:chExt cx="9015480" cy="66978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548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8E0D57-D438-4AB2-9A81-B953201B9A8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8D8E94-3B4D-4CF2-A312-E033985E02D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098B8-F617-498E-8644-61995AF87D3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529240" y="5815080"/>
            <a:ext cx="3411720" cy="749160"/>
            <a:chOff x="5529240" y="5815080"/>
            <a:chExt cx="3411720" cy="749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529240" y="5815080"/>
              <a:ext cx="3411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580000" y="5857920"/>
              <a:ext cx="3311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Муниципальное предприятие  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г. Новошахтинска МП «ККТС»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АКТУАЛИЗАЦИЯ СХЕМЫ ТЕПЛОСНАБЖЕНИЯ</a:t>
            </a:r>
            <a:br>
              <a:rPr sz="29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ГОРОДА НОВОШАХТИНС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период до 2035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571920" y="3143160"/>
            <a:ext cx="19288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91960" y="5310360"/>
            <a:ext cx="8607600" cy="1103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55520" y="190440"/>
            <a:ext cx="7153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(сценарий 2: при условии реализации инвестиционной программы                                                        на базе МП «ККТС», 7 лет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/>
          <p:nvPr/>
        </p:nvSpPr>
        <p:spPr>
          <a:xfrm>
            <a:off x="19080" y="35845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"/>
          <p:cNvSpPr/>
          <p:nvPr/>
        </p:nvSpPr>
        <p:spPr>
          <a:xfrm>
            <a:off x="1320840" y="325764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"/>
          <p:cNvSpPr/>
          <p:nvPr/>
        </p:nvSpPr>
        <p:spPr>
          <a:xfrm>
            <a:off x="263520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"/>
          <p:cNvSpPr/>
          <p:nvPr/>
        </p:nvSpPr>
        <p:spPr>
          <a:xfrm>
            <a:off x="3882960" y="2631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"/>
          <p:cNvSpPr/>
          <p:nvPr/>
        </p:nvSpPr>
        <p:spPr>
          <a:xfrm>
            <a:off x="7907400" y="1674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"/>
          <p:cNvSpPr/>
          <p:nvPr/>
        </p:nvSpPr>
        <p:spPr>
          <a:xfrm>
            <a:off x="5248440" y="230364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"/>
          <p:cNvSpPr/>
          <p:nvPr/>
        </p:nvSpPr>
        <p:spPr>
          <a:xfrm>
            <a:off x="652932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6000" y="4071960"/>
            <a:ext cx="1144440" cy="1336680"/>
            <a:chOff x="216000" y="4071960"/>
            <a:chExt cx="1144440" cy="1336680"/>
          </a:xfrm>
        </p:grpSpPr>
        <p:sp>
          <p:nvSpPr>
            <p:cNvPr id="346" name=""/>
            <p:cNvSpPr/>
            <p:nvPr/>
          </p:nvSpPr>
          <p:spPr>
            <a:xfrm>
              <a:off x="266760" y="4108320"/>
              <a:ext cx="1093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6000" y="4071960"/>
              <a:ext cx="1093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06520" y="36910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52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,54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"/>
          <p:cNvSpPr/>
          <p:nvPr/>
        </p:nvSpPr>
        <p:spPr>
          <a:xfrm>
            <a:off x="2749680" y="335448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177,5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3,798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"/>
          <p:cNvSpPr/>
          <p:nvPr/>
        </p:nvSpPr>
        <p:spPr>
          <a:xfrm>
            <a:off x="5337000" y="2722680"/>
            <a:ext cx="11862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709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63,371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"/>
          <p:cNvSpPr/>
          <p:nvPr/>
        </p:nvSpPr>
        <p:spPr>
          <a:xfrm>
            <a:off x="6616800" y="237816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855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1,406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55520" y="2004840"/>
            <a:ext cx="8880480" cy="3094200"/>
            <a:chOff x="155520" y="2004840"/>
            <a:chExt cx="8880480" cy="3094200"/>
          </a:xfrm>
        </p:grpSpPr>
        <p:sp>
          <p:nvSpPr>
            <p:cNvPr id="353" name=""/>
            <p:cNvSpPr/>
            <p:nvPr/>
          </p:nvSpPr>
          <p:spPr>
            <a:xfrm rot="5400000">
              <a:off x="357120" y="3719520"/>
              <a:ext cx="690480" cy="1093680"/>
            </a:xfrm>
            <a:custGeom>
              <a:avLst/>
              <a:gdLst/>
              <a:ahLst/>
              <a:rect l="l" t="t" r="r" b="b"/>
              <a:pathLst>
                <a:path w="692412" h="1075493">
                  <a:moveTo>
                    <a:pt x="0" y="0"/>
                  </a:moveTo>
                  <a:lnTo>
                    <a:pt x="111548" y="0"/>
                  </a:lnTo>
                  <a:lnTo>
                    <a:pt x="111548" y="963876"/>
                  </a:lnTo>
                  <a:lnTo>
                    <a:pt x="692412" y="963876"/>
                  </a:lnTo>
                  <a:lnTo>
                    <a:pt x="692412" y="1075493"/>
                  </a:lnTo>
                  <a:lnTo>
                    <a:pt x="0" y="1075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6000" y="4189320"/>
              <a:ext cx="105732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8760" y="3578400"/>
              <a:ext cx="1987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1621440" y="3337560"/>
              <a:ext cx="688680" cy="1170000"/>
            </a:xfrm>
            <a:custGeom>
              <a:avLst/>
              <a:gdLst/>
              <a:ahLst/>
              <a:rect l="l" t="t" r="r" b="b"/>
              <a:pathLst>
                <a:path w="690824" h="1150309">
                  <a:moveTo>
                    <a:pt x="0" y="0"/>
                  </a:moveTo>
                  <a:lnTo>
                    <a:pt x="111292" y="0"/>
                  </a:lnTo>
                  <a:lnTo>
                    <a:pt x="111292" y="1038948"/>
                  </a:lnTo>
                  <a:lnTo>
                    <a:pt x="690824" y="1038948"/>
                  </a:lnTo>
                  <a:lnTo>
                    <a:pt x="690824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95440" y="3692520"/>
              <a:ext cx="10573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5840" y="326376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917080" y="3023280"/>
              <a:ext cx="689040" cy="1170000"/>
            </a:xfrm>
            <a:custGeom>
              <a:avLst/>
              <a:gdLst/>
              <a:ahLst/>
              <a:rect l="l" t="t" r="r" b="b"/>
              <a:pathLst>
                <a:path w="690824" h="1150309">
                  <a:moveTo>
                    <a:pt x="0" y="0"/>
                  </a:moveTo>
                  <a:lnTo>
                    <a:pt x="111292" y="0"/>
                  </a:lnTo>
                  <a:lnTo>
                    <a:pt x="111292" y="1038948"/>
                  </a:lnTo>
                  <a:lnTo>
                    <a:pt x="690824" y="1038948"/>
                  </a:lnTo>
                  <a:lnTo>
                    <a:pt x="690824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2520" y="3378240"/>
              <a:ext cx="10555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1120" y="294948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210920" y="2707560"/>
              <a:ext cx="690480" cy="1171440"/>
            </a:xfrm>
            <a:custGeom>
              <a:avLst/>
              <a:gdLst/>
              <a:ahLst/>
              <a:rect l="l" t="t" r="r" b="b"/>
              <a:pathLst>
                <a:path w="692412" h="1151868">
                  <a:moveTo>
                    <a:pt x="0" y="0"/>
                  </a:moveTo>
                  <a:lnTo>
                    <a:pt x="111548" y="0"/>
                  </a:lnTo>
                  <a:lnTo>
                    <a:pt x="111548" y="1040251"/>
                  </a:lnTo>
                  <a:lnTo>
                    <a:pt x="692412" y="1040251"/>
                  </a:lnTo>
                  <a:lnTo>
                    <a:pt x="692412" y="1151868"/>
                  </a:lnTo>
                  <a:lnTo>
                    <a:pt x="0" y="11518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7960" y="3068640"/>
              <a:ext cx="1171440" cy="90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1699,4 тр.м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40,131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44960" y="2633760"/>
              <a:ext cx="20016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506920" y="2395440"/>
              <a:ext cx="69048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83080" y="2747880"/>
              <a:ext cx="105588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2040" y="2319480"/>
              <a:ext cx="19692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6802560" y="2081160"/>
              <a:ext cx="69048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78720" y="2433600"/>
              <a:ext cx="10555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37320" y="200484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8105400" y="1768320"/>
              <a:ext cx="69084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74000" y="2119320"/>
              <a:ext cx="10573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958160" y="21178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037,7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9,437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50920" y="189000"/>
            <a:ext cx="8678880" cy="863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Удельный расход условного топлива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на отпуск тепловой энергии, кг.у.т./Гкал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09440" y="1054080"/>
            <a:ext cx="8894880" cy="482292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326880" y="6021360"/>
            <a:ext cx="8428320" cy="620640"/>
            <a:chOff x="326880" y="6021360"/>
            <a:chExt cx="8428320" cy="620640"/>
          </a:xfrm>
        </p:grpSpPr>
        <p:sp>
          <p:nvSpPr>
            <p:cNvPr id="377" name=""/>
            <p:cNvSpPr/>
            <p:nvPr/>
          </p:nvSpPr>
          <p:spPr>
            <a:xfrm>
              <a:off x="326880" y="6021360"/>
              <a:ext cx="8428320" cy="620640"/>
            </a:xfrm>
            <a:prstGeom prst="roundRect">
              <a:avLst>
                <a:gd name="adj" fmla="val 16667"/>
              </a:avLst>
            </a:prstGeom>
            <a:solidFill>
              <a:srgbClr val="d3481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7120" y="6051600"/>
              <a:ext cx="8367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Целевой показатель: 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сокращение удельного расхода условного топлива с 164,3 до 157,9 кг.у.т./Гкал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бъем потерь при передаче тепловой энерг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т котельных МП «ККТС», Гкал/г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09440" y="1054080"/>
            <a:ext cx="90709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8000" y="189000"/>
            <a:ext cx="8928000" cy="576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дельный расход электроэнергии, кВтч/Гкал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09440" y="835200"/>
            <a:ext cx="8925120" cy="51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5360" y="1073160"/>
            <a:ext cx="410868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5840" y="142920"/>
            <a:ext cx="8572320" cy="785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СУЩЕСТВУЮЩИЕ ПРОБЛЕМЫ СИСТЕМЫ ТЕПЛОСНАБ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П «ККТС»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929120" y="1071720"/>
            <a:ext cx="392904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765680" y="328608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ловая сеть от котельной по ул. Радио 84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929120" y="3789360"/>
            <a:ext cx="3564000" cy="2425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762800" y="6215040"/>
            <a:ext cx="38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Угольная котельная по ул. Пичугина 20а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79440" y="3935520"/>
            <a:ext cx="3960720" cy="2609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72000" y="365040"/>
            <a:ext cx="3024360" cy="3224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11040" y="708120"/>
            <a:ext cx="4019760" cy="2881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2880" y="3417840"/>
            <a:ext cx="401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 БМК  ул. Пичугина, 20 Б, 2020 г.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"/>
          <p:cNvSpPr/>
          <p:nvPr/>
        </p:nvSpPr>
        <p:spPr>
          <a:xfrm>
            <a:off x="4910040" y="3581280"/>
            <a:ext cx="407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</a:t>
            </a:r>
            <a:r>
              <a:rPr b="1" lang="ru-RU" sz="1400" spc="-1" strike="noStrike">
                <a:solidFill>
                  <a:srgbClr val="d34817"/>
                </a:solidFill>
                <a:latin typeface="Cambr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БМК  ул. Коперника, 8 В, 2020 г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01600" y="6480"/>
            <a:ext cx="8739360" cy="803160"/>
            <a:chOff x="201600" y="6480"/>
            <a:chExt cx="8739360" cy="803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201600" y="6480"/>
              <a:ext cx="8739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24000" y="115920"/>
              <a:ext cx="84945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Применение новых технологий</a:t>
              </a:r>
              <a:endParaRPr b="0" lang="en-US" sz="2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145120" y="3935520"/>
            <a:ext cx="35226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200" y="214200"/>
            <a:ext cx="8786880" cy="9828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  <a:ea typeface="Arial"/>
              </a:rPr>
              <a:t>ПРЕДЛОЖЕНИЯ ПО АКТУАЛИЗАЦИИ СХЕМЫ ТЕПЛОСНАБЖЕНИЯ г. НОВОШАХТИНСКА до 2035 г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557360"/>
            <a:ext cx="8496000" cy="34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ассмотрены 2 сценарных варианта развития системы теплоснабжения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заключения концессионного соглашения, срок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еализации с 2021 г. по 2024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, срок реализации с 2020 г. по 2026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1280" indent="-3412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 котельным МП «ККТС» с 2021 откорректирован объем полезного отпуска (с учётом фактических данных за 3 предыдущих расчетных периода регулирования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200" y="214200"/>
            <a:ext cx="8715600" cy="5000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 ПО МОДЕРНИЗАЦИИ ИСТОЧНИКОВ ТЕПЛОСНАБЖЕНИЯ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1000080"/>
            <a:ext cx="8572320" cy="51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дернизация всех угольных котельных переводом на природный газ с установкой автономных газовых модульных котельных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При условии заключения концессионного соглашения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14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20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5840" y="142920"/>
            <a:ext cx="8572320" cy="44136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ПО МОДЕРНИЗАЦИИ ТЕПЛОВЫХ СЕТЕЙ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/>
          <p:nvPr/>
        </p:nvSpPr>
        <p:spPr>
          <a:xfrm>
            <a:off x="285840" y="714240"/>
            <a:ext cx="8572320" cy="206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Реконструкция теплотрасс с применением труб в ППУ-изоляци: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заключения концессионного соглашения – 3702 тр.м;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МП «ККТС» 9830 тр.м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Сокращение диаметров теплотрасс  за счет сокращения радиуса теплоснабжения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/>
          <p:nvPr/>
        </p:nvSpPr>
        <p:spPr>
          <a:xfrm>
            <a:off x="285840" y="3141720"/>
            <a:ext cx="25765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85840" y="2954160"/>
            <a:ext cx="2773440" cy="3508560"/>
          </a:xfrm>
          <a:prstGeom prst="rect">
            <a:avLst/>
          </a:prstGeom>
          <a:ln w="12600">
            <a:solidFill>
              <a:srgbClr val="d34817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3418920" y="6424560"/>
            <a:ext cx="219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убы в ППУ-изоляции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348000" y="2913120"/>
            <a:ext cx="5472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67960" cy="3975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224840" y="2201760"/>
            <a:ext cx="167148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котельны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9,656 млн.руб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2720" y="3019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627280" y="2538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/>
          <p:nvPr/>
        </p:nvSpPr>
        <p:spPr>
          <a:xfrm>
            <a:off x="4829040" y="20858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/>
          <p:nvPr/>
        </p:nvSpPr>
        <p:spPr>
          <a:xfrm>
            <a:off x="7550280" y="156672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91960" y="5310360"/>
            <a:ext cx="8602920" cy="1103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8000" y="190440"/>
            <a:ext cx="7338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(сценарий 1: при условии заключения концессионного соглашения, 4 год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093080" y="2168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125 тр.м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6,285 млн.руб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12720" y="3019320"/>
            <a:ext cx="16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627280" y="2538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/>
          <p:nvPr/>
        </p:nvSpPr>
        <p:spPr>
          <a:xfrm>
            <a:off x="4829040" y="20858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"/>
          <p:cNvSpPr/>
          <p:nvPr/>
        </p:nvSpPr>
        <p:spPr>
          <a:xfrm>
            <a:off x="7407360" y="15494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91960" y="534024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08000" y="190440"/>
            <a:ext cx="712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(сценарий 1: при условии заключения концессионного соглашения, 4 года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91960" y="5297400"/>
            <a:ext cx="8607600" cy="110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5520" y="190440"/>
            <a:ext cx="715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(сценарий 2: при условии реализации инвестиционной программы                                                        на базе МП «ККТС», 7 лет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"/>
          <p:cNvSpPr/>
          <p:nvPr/>
        </p:nvSpPr>
        <p:spPr>
          <a:xfrm>
            <a:off x="39600" y="3564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/>
          <p:nvPr/>
        </p:nvSpPr>
        <p:spPr>
          <a:xfrm>
            <a:off x="1365120" y="3240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"/>
          <p:cNvSpPr/>
          <p:nvPr/>
        </p:nvSpPr>
        <p:spPr>
          <a:xfrm>
            <a:off x="2646360" y="2928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"/>
          <p:cNvSpPr/>
          <p:nvPr/>
        </p:nvSpPr>
        <p:spPr>
          <a:xfrm>
            <a:off x="3941640" y="260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"/>
          <p:cNvSpPr/>
          <p:nvPr/>
        </p:nvSpPr>
        <p:spPr>
          <a:xfrm>
            <a:off x="7729560" y="16621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/>
          <p:nvPr/>
        </p:nvSpPr>
        <p:spPr>
          <a:xfrm>
            <a:off x="5189400" y="22813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/>
          <p:nvPr/>
        </p:nvSpPr>
        <p:spPr>
          <a:xfrm>
            <a:off x="645624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4057560"/>
            <a:ext cx="1292400" cy="1327320"/>
            <a:chOff x="0" y="4057560"/>
            <a:chExt cx="1292400" cy="1327320"/>
          </a:xfrm>
        </p:grpSpPr>
        <p:sp>
          <p:nvSpPr>
            <p:cNvPr id="303" name=""/>
            <p:cNvSpPr/>
            <p:nvPr/>
          </p:nvSpPr>
          <p:spPr>
            <a:xfrm>
              <a:off x="0" y="4265640"/>
              <a:ext cx="110484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200" y="4057560"/>
              <a:ext cx="110520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2 котельные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29,991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428840" y="372600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0,595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38292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2,245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"/>
          <p:cNvSpPr/>
          <p:nvPr/>
        </p:nvSpPr>
        <p:spPr>
          <a:xfrm>
            <a:off x="5235480" y="275904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19,927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"/>
          <p:cNvSpPr/>
          <p:nvPr/>
        </p:nvSpPr>
        <p:spPr>
          <a:xfrm>
            <a:off x="6499080" y="247824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21,24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01160" y="2031840"/>
            <a:ext cx="8794800" cy="3094200"/>
            <a:chOff x="101160" y="2031840"/>
            <a:chExt cx="8794800" cy="3094200"/>
          </a:xfrm>
        </p:grpSpPr>
        <p:sp>
          <p:nvSpPr>
            <p:cNvPr id="310" name=""/>
            <p:cNvSpPr/>
            <p:nvPr/>
          </p:nvSpPr>
          <p:spPr>
            <a:xfrm rot="5400000">
              <a:off x="330480" y="371700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080" y="4216320"/>
              <a:ext cx="103824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3800" y="3605040"/>
              <a:ext cx="1951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609200" y="3376440"/>
              <a:ext cx="689040" cy="1149480"/>
            </a:xfrm>
            <a:custGeom>
              <a:avLst/>
              <a:gdLst/>
              <a:ahLst/>
              <a:rect l="l" t="t" r="r" b="b"/>
              <a:pathLst>
                <a:path w="690823" h="1150848">
                  <a:moveTo>
                    <a:pt x="0" y="0"/>
                  </a:moveTo>
                  <a:lnTo>
                    <a:pt x="111292" y="0"/>
                  </a:lnTo>
                  <a:lnTo>
                    <a:pt x="111292" y="1039487"/>
                  </a:lnTo>
                  <a:lnTo>
                    <a:pt x="690823" y="1039487"/>
                  </a:lnTo>
                  <a:lnTo>
                    <a:pt x="690823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2200" y="3719520"/>
              <a:ext cx="10382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36760" y="329076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880720" y="3062160"/>
              <a:ext cx="689040" cy="1149480"/>
            </a:xfrm>
            <a:custGeom>
              <a:avLst/>
              <a:gdLst/>
              <a:ahLst/>
              <a:rect l="l" t="t" r="r" b="b"/>
              <a:pathLst>
                <a:path w="690823" h="1150849">
                  <a:moveTo>
                    <a:pt x="0" y="0"/>
                  </a:moveTo>
                  <a:lnTo>
                    <a:pt x="111292" y="0"/>
                  </a:lnTo>
                  <a:lnTo>
                    <a:pt x="111292" y="1039488"/>
                  </a:lnTo>
                  <a:lnTo>
                    <a:pt x="690823" y="1039488"/>
                  </a:lnTo>
                  <a:lnTo>
                    <a:pt x="690823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5520" y="3405240"/>
              <a:ext cx="10364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08280" y="297648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4151520" y="274536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8">
                  <a:moveTo>
                    <a:pt x="0" y="0"/>
                  </a:moveTo>
                  <a:lnTo>
                    <a:pt x="111548" y="0"/>
                  </a:lnTo>
                  <a:lnTo>
                    <a:pt x="111548" y="1039231"/>
                  </a:lnTo>
                  <a:lnTo>
                    <a:pt x="692412" y="1039231"/>
                  </a:lnTo>
                  <a:lnTo>
                    <a:pt x="692412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05360" y="3084480"/>
              <a:ext cx="1103040" cy="90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4 котельных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169,617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9800" y="2660760"/>
              <a:ext cx="19548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5424840" y="243108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8">
                  <a:moveTo>
                    <a:pt x="0" y="0"/>
                  </a:moveTo>
                  <a:lnTo>
                    <a:pt x="111548" y="0"/>
                  </a:lnTo>
                  <a:lnTo>
                    <a:pt x="111548" y="1039231"/>
                  </a:lnTo>
                  <a:lnTo>
                    <a:pt x="692412" y="1039231"/>
                  </a:lnTo>
                  <a:lnTo>
                    <a:pt x="692412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10360" y="2774880"/>
              <a:ext cx="103644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53120" y="2346480"/>
              <a:ext cx="19368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6696360" y="211680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1880" y="2460600"/>
              <a:ext cx="10364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24640" y="203184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7975800" y="180396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53400" y="2146320"/>
              <a:ext cx="10382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756560" y="21178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86,52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05:01:46Z</dcterms:created>
  <dc:creator>Максим</dc:creator>
  <dc:description/>
  <dc:language>en-US</dc:language>
  <cp:lastModifiedBy>пользователь</cp:lastModifiedBy>
  <cp:lastPrinted>2020-10-26T07:17:15Z</cp:lastPrinted>
  <dcterms:modified xsi:type="dcterms:W3CDTF">2020-10-26T07:17:51Z</dcterms:modified>
  <cp:revision>121</cp:revision>
  <dc:subject/>
  <dc:title>АКТУАЛИЗАЦИЯ СХЕМЫ ТЕПЛОСНАБЖЕНИЯ муниципального образования «города Новошахтинск» до 2031 года</dc:title>
</cp:coreProperties>
</file>