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50A51-822A-4987-8D07-6DCCCFE4F9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8F8C6-7265-4365-AFC8-059CE64B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24A9D-65D6-4797-9783-473905DF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04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6932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04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6932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AACB7-EFB7-48CA-8E25-CFC0844941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86A5B-37EB-4449-9790-D7325FAD1E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DDE79-0EB6-487C-9A16-A71B21A3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256BC-0330-45B0-B297-DB4BA7E4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7FCB4E-48AF-4033-848F-CE75AA8E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675AC0-48A8-43D5-A718-3279FBE91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58C3EB-9CDA-424E-B443-95C45E672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699B40-4AF1-42BB-909B-0895C4ED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64353-08A7-40C1-8698-0E5A1895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96E2E0-30C7-4CF2-A78D-B45456C9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FBC401-7C0C-4487-AEF8-FB438E3F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83474F-7665-4BF9-8BEF-F24BBAAB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4C11AE-5FB8-4511-90C5-9AA880E5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04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6932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04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6932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0C876E-0D74-4236-AAED-79315D3B5B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78FE-A407-4E85-939E-BBFC676001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3AEC-A092-47C3-A68B-779EE547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63A3-E1A2-4D19-B9BA-7CBB44D8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FB36-3053-43FA-83FC-02526B88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1F5ED-6598-4B04-950D-59B747CB2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98A09-D5B2-4A60-9B01-974C008A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F4F2B-BF77-4FC4-966E-55C44D6FB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B2AB-4273-4606-AA29-80BFAFFC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C55B-3C70-4730-B187-84B70B27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72495-A851-444D-927E-06E1DFDA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B80A-9E63-4319-9E11-0814E2AB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2511-43C3-4CF9-A8E8-C1CCC7D5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04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6932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04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6932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79D4A-E183-4008-9E97-1542239041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8B2688-479C-410E-9B32-197E08F8D0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7AD13F-0F02-4501-B1B4-0C0CAE37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63884F-CB51-48E4-806D-3686375B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9FA73-660A-403E-A592-22E1816A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810E16-4265-4839-AAFE-3806B2F5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ACAEAB-48AB-4FA8-A859-A6B0DCCEC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93DF0C-5FE3-4054-A3A7-C805F43C8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475E0F-2B66-4321-8165-ADCAF6C9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2D1F14-9301-47CC-9FE2-BA99E345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2907BC-F4CA-4FED-BB38-E0ABFE40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272E93-73DA-4E73-9BA7-B60C0F62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410812-686E-4A29-B9B1-D16BB5B2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4204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6932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40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4204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6932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A34BC6-FD77-4AE9-97B6-4FBC389931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FD8E6F-1794-4391-9343-A4A6B8720A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F691F-485D-4546-8C31-619633E3B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E01EC9-222D-4DC6-AEA5-AA9D90E9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6F22A8-94F1-4A68-A899-71506DA5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E0D9CF-CC99-4179-9BFF-D2F2076A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8AF3C3-4F7B-4627-A484-018B8D552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3A5DDC-FC69-4A8E-813A-2C99EFC55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F0920F-6663-4473-BD23-F9521FA7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87CF8E-6ED4-4CD5-9F80-C735C091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3D00EF-8E96-41FC-88E3-44D0E92E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22BE93-F23B-48D3-96CC-BDACC1DF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600312-B0AD-45BD-9D83-4EBAE7C4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88AFD-07E1-4E37-800E-7F657EBF1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4204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6932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1440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4204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6932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FDBC0B-C0BA-451B-8735-932FBAA96F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2C12B-D40A-4975-BC46-49CCDF5C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A8A34-42DC-462E-897A-3667FF21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58165-BF01-4400-B306-5AE05C8E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1280"/>
            <a:ext cx="2475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212400" y="6276600"/>
            <a:ext cx="322200" cy="3222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E2489CE-D02C-4E33-A035-D2BE7B51F8DF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" name="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6171840" y="6191280"/>
            <a:ext cx="2475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212400" y="6276600"/>
            <a:ext cx="322200" cy="3222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5E606FC-6D1C-43DE-9526-FA312341013B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" name="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6600" y="66600"/>
            <a:ext cx="9015480" cy="6697800"/>
            <a:chOff x="66600" y="66600"/>
            <a:chExt cx="9015480" cy="6697800"/>
          </a:xfrm>
        </p:grpSpPr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66600" y="66600"/>
              <a:ext cx="9015480" cy="669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2000" y="166680"/>
              <a:ext cx="8818560" cy="64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7" name="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" name="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5"/>
          </p:nvPr>
        </p:nvSpPr>
        <p:spPr>
          <a:xfrm>
            <a:off x="6171840" y="6191280"/>
            <a:ext cx="2475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6"/>
          </p:nvPr>
        </p:nvSpPr>
        <p:spPr>
          <a:xfrm>
            <a:off x="212400" y="6275160"/>
            <a:ext cx="322200" cy="3222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2F4FCE0-3A37-4A70-8385-CFA293938BE4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2" name="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" name="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7"/>
          </p:nvPr>
        </p:nvSpPr>
        <p:spPr>
          <a:xfrm>
            <a:off x="6171840" y="6191280"/>
            <a:ext cx="2475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8"/>
          </p:nvPr>
        </p:nvSpPr>
        <p:spPr>
          <a:xfrm>
            <a:off x="212400" y="6276600"/>
            <a:ext cx="322200" cy="3222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BE35970-C9EF-4DD7-8CBB-D466A6E04189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" name="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9"/>
          </p:nvPr>
        </p:nvSpPr>
        <p:spPr>
          <a:xfrm>
            <a:off x="6171840" y="6191280"/>
            <a:ext cx="2475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1440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0"/>
          </p:nvPr>
        </p:nvSpPr>
        <p:spPr>
          <a:xfrm>
            <a:off x="212400" y="6275160"/>
            <a:ext cx="322200" cy="3222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2693A6E-9E93-4D5F-BFC9-51E3624CA6E5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5529240" y="5815080"/>
            <a:ext cx="3411720" cy="749160"/>
            <a:chOff x="5529240" y="5815080"/>
            <a:chExt cx="3411720" cy="749160"/>
          </a:xfrm>
        </p:grpSpPr>
        <p:pic>
          <p:nvPicPr>
            <p:cNvPr id="233" name="" descr=""/>
            <p:cNvPicPr/>
            <p:nvPr/>
          </p:nvPicPr>
          <p:blipFill>
            <a:blip r:embed="rId1"/>
            <a:stretch/>
          </p:blipFill>
          <p:spPr>
            <a:xfrm>
              <a:off x="5529240" y="5815080"/>
              <a:ext cx="341172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5580000" y="5857920"/>
              <a:ext cx="33116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Cambria"/>
                  <a:ea typeface="Arial"/>
                </a:rPr>
                <a:t>Муниципальное предприятие  </a:t>
              </a:r>
              <a:endParaRPr b="0" lang="en-US" sz="1500" spc="-1" strike="noStrike">
                <a:solidFill>
                  <a:srgbClr val="000000"/>
                </a:solidFill>
                <a:latin typeface="Perpetua"/>
              </a:endParaRPr>
            </a:p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Cambria"/>
                  <a:ea typeface="Arial"/>
                </a:rPr>
                <a:t>г. Новошахтинска МП «ККТС»</a:t>
              </a:r>
              <a:endParaRPr b="0" lang="en-US" sz="15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457200" y="1506600"/>
            <a:ext cx="82296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ambria"/>
              </a:rPr>
              <a:t>АКТУАЛИЗАЦИЯ СХЕМЫ ТЕПЛОСНАБЖЕНИЯ</a:t>
            </a:r>
            <a:br>
              <a:rPr sz="2900"/>
            </a:b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ГОРОДА НОВОШАХТИНСК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на период до 2037 год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571920" y="3143160"/>
            <a:ext cx="1928880" cy="22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08000" y="189000"/>
            <a:ext cx="8928000" cy="79200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mbria"/>
              </a:rPr>
              <a:t>Объем потерь при передаче тепловой энергии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Cambria"/>
              </a:rPr>
              <a:t>от котельных МП «ККТС», Гкал/год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328680" y="6059520"/>
            <a:ext cx="8461440" cy="7063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109440" y="1054080"/>
            <a:ext cx="8925120" cy="49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08000" y="189000"/>
            <a:ext cx="8928000" cy="57600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Удельный расход электроэнергии, кВтч/Гкал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328680" y="6059520"/>
            <a:ext cx="8461440" cy="70632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109440" y="907920"/>
            <a:ext cx="8925120" cy="51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22400" y="1109520"/>
            <a:ext cx="3638520" cy="5145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285840" y="115920"/>
            <a:ext cx="8572320" cy="78588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  <a:ea typeface="Arial"/>
              </a:rPr>
              <a:t>СУЩЕСТВУЮЩИЕ ПРОБЛЕМЫ СИСТЕМЫ ТЕПЛОСНАБЖЕНИЯ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mbria"/>
                <a:ea typeface="Arial"/>
              </a:rPr>
              <a:t>МП «ККТС»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3851280" y="1071720"/>
            <a:ext cx="5184720" cy="2286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4121280" y="3357720"/>
            <a:ext cx="405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  <a:ea typeface="Times New Roman"/>
              </a:rPr>
              <a:t>Тепловая сеть от котельной по ул. Радио 84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"/>
          <p:cNvSpPr/>
          <p:nvPr/>
        </p:nvSpPr>
        <p:spPr>
          <a:xfrm>
            <a:off x="3819600" y="5962680"/>
            <a:ext cx="512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  <a:ea typeface="Times New Roman"/>
              </a:rPr>
              <a:t>Угольная котельная по ул. Советской Конституции, 8-к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3811680" y="4005360"/>
            <a:ext cx="2608200" cy="19573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6410160" y="4005360"/>
            <a:ext cx="2608560" cy="19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79440" y="3935520"/>
            <a:ext cx="3960720" cy="26096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5472000" y="365040"/>
            <a:ext cx="3024360" cy="32241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311040" y="708120"/>
            <a:ext cx="4019760" cy="28810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272880" y="3417840"/>
            <a:ext cx="4011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mbria"/>
                <a:ea typeface="Times New Roman"/>
              </a:rPr>
              <a:t>Строительство БМК  ул. Пичугина, 20 Б, 2020 г.  </a:t>
            </a: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8" name=""/>
          <p:cNvSpPr/>
          <p:nvPr/>
        </p:nvSpPr>
        <p:spPr>
          <a:xfrm>
            <a:off x="4910040" y="3581280"/>
            <a:ext cx="4078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mbria"/>
                <a:ea typeface="Times New Roman"/>
              </a:rPr>
              <a:t>Строительство</a:t>
            </a:r>
            <a:r>
              <a:rPr b="1" lang="ru-RU" sz="1400" spc="-1" strike="noStrike">
                <a:solidFill>
                  <a:srgbClr val="d34817"/>
                </a:solidFill>
                <a:latin typeface="Cambria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Cambria"/>
                <a:ea typeface="Times New Roman"/>
              </a:rPr>
              <a:t>БМК  ул. Коперника, 8 В, 2020 г. </a:t>
            </a: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201600" y="6480"/>
            <a:ext cx="8739360" cy="803160"/>
            <a:chOff x="201600" y="6480"/>
            <a:chExt cx="8739360" cy="803160"/>
          </a:xfrm>
        </p:grpSpPr>
        <p:pic>
          <p:nvPicPr>
            <p:cNvPr id="250" name="" descr=""/>
            <p:cNvPicPr/>
            <p:nvPr/>
          </p:nvPicPr>
          <p:blipFill>
            <a:blip r:embed="rId4"/>
            <a:stretch/>
          </p:blipFill>
          <p:spPr>
            <a:xfrm>
              <a:off x="201600" y="6480"/>
              <a:ext cx="8739360" cy="8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324000" y="115920"/>
              <a:ext cx="849456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Cambria"/>
                  <a:ea typeface="Arial"/>
                </a:rPr>
                <a:t>Применение новых технологий</a:t>
              </a:r>
              <a:endParaRPr b="0" lang="en-US" sz="20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5145120" y="3935520"/>
            <a:ext cx="3522600" cy="260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14200" y="214200"/>
            <a:ext cx="8786880" cy="98280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mbria"/>
                <a:ea typeface="Arial"/>
              </a:rPr>
              <a:t>ПРЕДЛОЖЕНИЯ ПО АКТУАЛИЗАЦИИ СХЕМЫ ТЕПЛОСНАБЖЕНИЯ г. НОВОШАХТИНСКА до 2037 г.</a:t>
            </a:r>
            <a:endParaRPr b="0" lang="en-US" sz="25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4" name=""/>
          <p:cNvSpPr/>
          <p:nvPr/>
        </p:nvSpPr>
        <p:spPr>
          <a:xfrm>
            <a:off x="324000" y="1557360"/>
            <a:ext cx="8496000" cy="3456000"/>
          </a:xfrm>
          <a:prstGeom prst="rect">
            <a:avLst/>
          </a:prstGeom>
          <a:solidFill>
            <a:srgbClr val="ffffff"/>
          </a:solidFill>
          <a:ln w="381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Symbol" charset="2"/>
              <a:buChar char=""/>
              <a:tabLst>
                <a:tab algn="l" pos="981000"/>
                <a:tab algn="l" pos="1895400"/>
                <a:tab algn="l" pos="2809800"/>
                <a:tab algn="l" pos="3724200"/>
                <a:tab algn="l" pos="4638600"/>
                <a:tab algn="l" pos="5553000"/>
                <a:tab algn="l" pos="6467400"/>
                <a:tab algn="l" pos="7381800"/>
                <a:tab algn="l" pos="8296200"/>
                <a:tab algn="l" pos="9210600"/>
                <a:tab algn="l" pos="101250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Рассмотрен вариант развития системы теплоснабжения - при условии реализации инвестиционной программы на базе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164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81000"/>
                <a:tab algn="l" pos="1895400"/>
                <a:tab algn="l" pos="2809800"/>
                <a:tab algn="l" pos="3724200"/>
                <a:tab algn="l" pos="4638600"/>
                <a:tab algn="l" pos="5553000"/>
                <a:tab algn="l" pos="6467400"/>
                <a:tab algn="l" pos="7381800"/>
                <a:tab algn="l" pos="8296200"/>
                <a:tab algn="l" pos="9210600"/>
                <a:tab algn="l" pos="101250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МП «ККТС», срок реализации с 2022 г. по 2027 г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164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81000"/>
                <a:tab algn="l" pos="1895400"/>
                <a:tab algn="l" pos="2809800"/>
                <a:tab algn="l" pos="3724200"/>
                <a:tab algn="l" pos="4638600"/>
                <a:tab algn="l" pos="5553000"/>
                <a:tab algn="l" pos="6467400"/>
                <a:tab algn="l" pos="7381800"/>
                <a:tab algn="l" pos="8296200"/>
                <a:tab algn="l" pos="9210600"/>
                <a:tab algn="l" pos="101250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41280" indent="-3412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Symbol" charset="2"/>
              <a:buChar char=""/>
              <a:tabLst>
                <a:tab algn="l" pos="981000"/>
                <a:tab algn="l" pos="1895400"/>
                <a:tab algn="l" pos="2809800"/>
                <a:tab algn="l" pos="3724200"/>
                <a:tab algn="l" pos="4638600"/>
                <a:tab algn="l" pos="5553000"/>
                <a:tab algn="l" pos="6467400"/>
                <a:tab algn="l" pos="7381800"/>
                <a:tab algn="l" pos="8296200"/>
                <a:tab algn="l" pos="9210600"/>
                <a:tab algn="l" pos="101250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По котельным МП «ККТС» с 2022 откорректирован объем полезного отпуска (с учётом фактических данных за 3 предыдущих расчетных периодов регулирования)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14200" y="214200"/>
            <a:ext cx="8715600" cy="50004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  <a:ea typeface="Arial"/>
              </a:rPr>
              <a:t>МЕРПОРИЯТИЯ  ПО МОДЕРНИЗАЦИИ ИСТОЧНИКОВ ТЕПЛОСНАБЖЕНИЯ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"/>
          <p:cNvSpPr/>
          <p:nvPr/>
        </p:nvSpPr>
        <p:spPr>
          <a:xfrm>
            <a:off x="285840" y="1000080"/>
            <a:ext cx="8572320" cy="5143680"/>
          </a:xfrm>
          <a:prstGeom prst="rect">
            <a:avLst/>
          </a:prstGeom>
          <a:solidFill>
            <a:srgbClr val="ffffff"/>
          </a:solidFill>
          <a:ln w="381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636480"/>
                <a:tab algn="l" pos="1550880"/>
                <a:tab algn="l" pos="2465280"/>
                <a:tab algn="l" pos="3379680"/>
                <a:tab algn="l" pos="4294080"/>
                <a:tab algn="l" pos="5208480"/>
                <a:tab algn="l" pos="6122880"/>
                <a:tab algn="l" pos="7037280"/>
                <a:tab algn="l" pos="7951680"/>
                <a:tab algn="l" pos="8866080"/>
                <a:tab algn="l" pos="97804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Модернизация оставшихся четырех угольных котельных переводом на природный газ с установкой автономных газовых модульных котельных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636480"/>
                <a:tab algn="l" pos="1550880"/>
                <a:tab algn="l" pos="2465280"/>
                <a:tab algn="l" pos="3379680"/>
                <a:tab algn="l" pos="4294080"/>
                <a:tab algn="l" pos="5208480"/>
                <a:tab algn="l" pos="6122880"/>
                <a:tab algn="l" pos="7037280"/>
                <a:tab algn="l" pos="7951680"/>
                <a:tab algn="l" pos="8866080"/>
                <a:tab algn="l" pos="97804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636480"/>
                <a:tab algn="l" pos="1550880"/>
                <a:tab algn="l" pos="2465280"/>
                <a:tab algn="l" pos="3379680"/>
                <a:tab algn="l" pos="4294080"/>
                <a:tab algn="l" pos="5208480"/>
                <a:tab algn="l" pos="6122880"/>
                <a:tab algn="l" pos="7037280"/>
                <a:tab algn="l" pos="7951680"/>
                <a:tab algn="l" pos="8866080"/>
                <a:tab algn="l" pos="97804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При условии реализации инвестиционной программы на базе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144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636480"/>
                <a:tab algn="l" pos="1550880"/>
                <a:tab algn="l" pos="2465280"/>
                <a:tab algn="l" pos="3379680"/>
                <a:tab algn="l" pos="4294080"/>
                <a:tab algn="l" pos="5208480"/>
                <a:tab algn="l" pos="6122880"/>
                <a:tab algn="l" pos="7037280"/>
                <a:tab algn="l" pos="7951680"/>
                <a:tab algn="l" pos="8866080"/>
                <a:tab algn="l" pos="97804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МП «ККТС»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34817"/>
              </a:buClr>
              <a:buSzPct val="85000"/>
              <a:buFont typeface="Cambria"/>
              <a:buChar char="-"/>
              <a:tabLst>
                <a:tab algn="l" pos="636480"/>
                <a:tab algn="l" pos="1550880"/>
                <a:tab algn="l" pos="2465280"/>
                <a:tab algn="l" pos="3379680"/>
                <a:tab algn="l" pos="4294080"/>
                <a:tab algn="l" pos="5208480"/>
                <a:tab algn="l" pos="6122880"/>
                <a:tab algn="l" pos="7037280"/>
                <a:tab algn="l" pos="7951680"/>
                <a:tab algn="l" pos="8866080"/>
                <a:tab algn="l" pos="97804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Microsoft YaHei"/>
              </a:rPr>
              <a:t>модернизация 18 котельных с установкой блочно-модульных                                                                                                     котельных;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34817"/>
              </a:buClr>
              <a:buSzPct val="85000"/>
              <a:buFont typeface="Cambria"/>
              <a:buChar char="-"/>
              <a:tabLst>
                <a:tab algn="l" pos="636480"/>
                <a:tab algn="l" pos="1550880"/>
                <a:tab algn="l" pos="2465280"/>
                <a:tab algn="l" pos="3379680"/>
                <a:tab algn="l" pos="4294080"/>
                <a:tab algn="l" pos="5208480"/>
                <a:tab algn="l" pos="6122880"/>
                <a:tab algn="l" pos="7037280"/>
                <a:tab algn="l" pos="7951680"/>
                <a:tab algn="l" pos="8866080"/>
                <a:tab algn="l" pos="97804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Microsoft YaHei"/>
              </a:rPr>
              <a:t>строительство 2 блочно-модульных котельных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343080" indent="-341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636480"/>
                <a:tab algn="l" pos="1550880"/>
                <a:tab algn="l" pos="2465280"/>
                <a:tab algn="l" pos="3379680"/>
                <a:tab algn="l" pos="4294080"/>
                <a:tab algn="l" pos="5208480"/>
                <a:tab algn="l" pos="6122880"/>
                <a:tab algn="l" pos="7037280"/>
                <a:tab algn="l" pos="7951680"/>
                <a:tab algn="l" pos="8866080"/>
                <a:tab algn="l" pos="97804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85840" y="142920"/>
            <a:ext cx="8572320" cy="44136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  <a:ea typeface="Arial"/>
              </a:rPr>
              <a:t>МЕРПОРИЯТИЯ ПО МОДЕРНИЗАЦИИ ТЕПЛОВЫХ СЕТЕЙ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"/>
          <p:cNvSpPr/>
          <p:nvPr/>
        </p:nvSpPr>
        <p:spPr>
          <a:xfrm>
            <a:off x="285840" y="714240"/>
            <a:ext cx="8572320" cy="2067120"/>
          </a:xfrm>
          <a:prstGeom prst="rect">
            <a:avLst/>
          </a:prstGeom>
          <a:solidFill>
            <a:srgbClr val="ffffff"/>
          </a:solidFill>
          <a:ln w="381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mbria"/>
                <a:ea typeface="Arial"/>
              </a:rPr>
              <a:t>Реконструкция и строительство теплотрасс с применением труб в ППУ-изоляци при условии реализации инвестиционной программы на базе МП «ККТС». Строительство - 1094 тр.м., реконструкция – 2560 тр.м.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mbria"/>
                <a:ea typeface="Arial"/>
              </a:rPr>
              <a:t>Сокращение диаметров теплотрасс  за счет сокращения радиуса теплоснабжения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71440" indent="-271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1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"/>
          <p:cNvSpPr/>
          <p:nvPr/>
        </p:nvSpPr>
        <p:spPr>
          <a:xfrm>
            <a:off x="285840" y="3141720"/>
            <a:ext cx="2576520" cy="34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55600" y="3062160"/>
            <a:ext cx="2773440" cy="3508560"/>
          </a:xfrm>
          <a:prstGeom prst="rect">
            <a:avLst/>
          </a:prstGeom>
          <a:ln w="12600">
            <a:solidFill>
              <a:srgbClr val="d34817"/>
            </a:solidFill>
            <a:miter/>
          </a:ln>
        </p:spPr>
      </p:pic>
      <p:sp>
        <p:nvSpPr>
          <p:cNvPr id="261" name=""/>
          <p:cNvSpPr/>
          <p:nvPr/>
        </p:nvSpPr>
        <p:spPr>
          <a:xfrm>
            <a:off x="3418920" y="6424560"/>
            <a:ext cx="2199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mbria"/>
                <a:ea typeface="Times New Roman"/>
              </a:rPr>
              <a:t>Трубы в ППУ-изоляции</a:t>
            </a: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3348000" y="2913120"/>
            <a:ext cx="5472000" cy="355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4" name="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5" name="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"/>
          <p:cNvSpPr/>
          <p:nvPr/>
        </p:nvSpPr>
        <p:spPr>
          <a:xfrm>
            <a:off x="61272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7661160" y="1055520"/>
            <a:ext cx="1297080" cy="12956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291960" y="5297400"/>
            <a:ext cx="8607600" cy="11034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55520" y="190440"/>
            <a:ext cx="72691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e3611"/>
                </a:solidFill>
                <a:latin typeface="Cambria"/>
              </a:rPr>
              <a:t>Мероприятия по строительству, реконструкции и техническому перевооружению котельных при условии реализации инвестиционной программы на базе МП «ККТС», 6 лет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0" name=""/>
          <p:cNvSpPr/>
          <p:nvPr/>
        </p:nvSpPr>
        <p:spPr>
          <a:xfrm>
            <a:off x="971640" y="3240000"/>
            <a:ext cx="14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22 - 2023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"/>
          <p:cNvSpPr/>
          <p:nvPr/>
        </p:nvSpPr>
        <p:spPr>
          <a:xfrm>
            <a:off x="2646360" y="2928960"/>
            <a:ext cx="13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24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2" name=""/>
          <p:cNvSpPr/>
          <p:nvPr/>
        </p:nvSpPr>
        <p:spPr>
          <a:xfrm>
            <a:off x="3941640" y="260820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25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3" name=""/>
          <p:cNvSpPr/>
          <p:nvPr/>
        </p:nvSpPr>
        <p:spPr>
          <a:xfrm>
            <a:off x="5189400" y="228132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26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4" name=""/>
          <p:cNvSpPr/>
          <p:nvPr/>
        </p:nvSpPr>
        <p:spPr>
          <a:xfrm>
            <a:off x="6456240" y="197820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27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4265640"/>
            <a:ext cx="110664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"/>
          <p:cNvSpPr/>
          <p:nvPr/>
        </p:nvSpPr>
        <p:spPr>
          <a:xfrm>
            <a:off x="1106640" y="3726000"/>
            <a:ext cx="135396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68760" bIns="68760" anchor="t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3 котельных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20 млн.руб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7" name=""/>
          <p:cNvSpPr/>
          <p:nvPr/>
        </p:nvSpPr>
        <p:spPr>
          <a:xfrm>
            <a:off x="2703600" y="3382920"/>
            <a:ext cx="118584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68760" bIns="68760" anchor="t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7 котельных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193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млн.руб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8" name=""/>
          <p:cNvSpPr/>
          <p:nvPr/>
        </p:nvSpPr>
        <p:spPr>
          <a:xfrm>
            <a:off x="5235480" y="2759040"/>
            <a:ext cx="118584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68760" bIns="68760" anchor="t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4 котельных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142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млн.руб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9" name=""/>
          <p:cNvSpPr/>
          <p:nvPr/>
        </p:nvSpPr>
        <p:spPr>
          <a:xfrm>
            <a:off x="6499080" y="2478240"/>
            <a:ext cx="118584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68760" bIns="68760" anchor="t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2 котельные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млн.руб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0" name=""/>
          <p:cNvSpPr/>
          <p:nvPr/>
        </p:nvSpPr>
        <p:spPr>
          <a:xfrm>
            <a:off x="235080" y="4216320"/>
            <a:ext cx="1039680" cy="911160"/>
          </a:xfrm>
          <a:custGeom>
            <a:avLst/>
            <a:gdLst/>
            <a:ahLst/>
            <a:rect l="l" t="t" r="r" b="b"/>
            <a:pathLst>
              <a:path w="1039095" h="910828">
                <a:moveTo>
                  <a:pt x="0" y="0"/>
                </a:moveTo>
                <a:lnTo>
                  <a:pt x="1039095" y="0"/>
                </a:lnTo>
                <a:lnTo>
                  <a:pt x="1039095" y="910828"/>
                </a:lnTo>
                <a:lnTo>
                  <a:pt x="0" y="91082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1" name=""/>
          <p:cNvSpPr/>
          <p:nvPr/>
        </p:nvSpPr>
        <p:spPr>
          <a:xfrm rot="5400000">
            <a:off x="1405440" y="3170880"/>
            <a:ext cx="690840" cy="1558800"/>
          </a:xfrm>
          <a:custGeom>
            <a:avLst/>
            <a:gdLst/>
            <a:ahLst/>
            <a:rect l="l" t="t" r="r" b="b"/>
            <a:pathLst>
              <a:path w="690562" h="1558925">
                <a:moveTo>
                  <a:pt x="0" y="0"/>
                </a:moveTo>
                <a:lnTo>
                  <a:pt x="111250" y="0"/>
                </a:lnTo>
                <a:lnTo>
                  <a:pt x="111250" y="1447606"/>
                </a:lnTo>
                <a:lnTo>
                  <a:pt x="690562" y="1447606"/>
                </a:lnTo>
                <a:lnTo>
                  <a:pt x="690562" y="1558925"/>
                </a:lnTo>
                <a:lnTo>
                  <a:pt x="0" y="1558925"/>
                </a:lnTo>
                <a:lnTo>
                  <a:pt x="0" y="0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d348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2" name=""/>
          <p:cNvSpPr/>
          <p:nvPr/>
        </p:nvSpPr>
        <p:spPr>
          <a:xfrm>
            <a:off x="1492200" y="3719520"/>
            <a:ext cx="1040040" cy="909720"/>
          </a:xfrm>
          <a:custGeom>
            <a:avLst/>
            <a:gdLst/>
            <a:ahLst/>
            <a:rect l="l" t="t" r="r" b="b"/>
            <a:pathLst>
              <a:path w="1039095" h="910828">
                <a:moveTo>
                  <a:pt x="0" y="0"/>
                </a:moveTo>
                <a:lnTo>
                  <a:pt x="1039095" y="0"/>
                </a:lnTo>
                <a:lnTo>
                  <a:pt x="1039095" y="910828"/>
                </a:lnTo>
                <a:lnTo>
                  <a:pt x="0" y="91082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3" name=""/>
          <p:cNvSpPr/>
          <p:nvPr/>
        </p:nvSpPr>
        <p:spPr>
          <a:xfrm>
            <a:off x="2336760" y="3290760"/>
            <a:ext cx="195480" cy="195480"/>
          </a:xfrm>
          <a:prstGeom prst="triangle">
            <a:avLst>
              <a:gd name="adj" fmla="val 100000"/>
            </a:avLst>
          </a:prstGeom>
          <a:solidFill>
            <a:srgbClr val="d34817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"/>
          <p:cNvSpPr/>
          <p:nvPr/>
        </p:nvSpPr>
        <p:spPr>
          <a:xfrm rot="5400000">
            <a:off x="2880720" y="3062160"/>
            <a:ext cx="690480" cy="1150920"/>
          </a:xfrm>
          <a:custGeom>
            <a:avLst/>
            <a:gdLst/>
            <a:ahLst/>
            <a:rect l="l" t="t" r="r" b="b"/>
            <a:pathLst>
              <a:path w="690562" h="1150938">
                <a:moveTo>
                  <a:pt x="0" y="0"/>
                </a:moveTo>
                <a:lnTo>
                  <a:pt x="111250" y="0"/>
                </a:lnTo>
                <a:lnTo>
                  <a:pt x="111250" y="1039619"/>
                </a:lnTo>
                <a:lnTo>
                  <a:pt x="690562" y="1039619"/>
                </a:lnTo>
                <a:lnTo>
                  <a:pt x="690562" y="1150938"/>
                </a:lnTo>
                <a:lnTo>
                  <a:pt x="0" y="1150938"/>
                </a:lnTo>
                <a:lnTo>
                  <a:pt x="0" y="0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d348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"/>
          <p:cNvSpPr/>
          <p:nvPr/>
        </p:nvSpPr>
        <p:spPr>
          <a:xfrm>
            <a:off x="2765520" y="3405240"/>
            <a:ext cx="1038240" cy="909720"/>
          </a:xfrm>
          <a:custGeom>
            <a:avLst/>
            <a:gdLst/>
            <a:ahLst/>
            <a:rect l="l" t="t" r="r" b="b"/>
            <a:pathLst>
              <a:path w="1039095" h="910828">
                <a:moveTo>
                  <a:pt x="0" y="0"/>
                </a:moveTo>
                <a:lnTo>
                  <a:pt x="1039095" y="0"/>
                </a:lnTo>
                <a:lnTo>
                  <a:pt x="1039095" y="910828"/>
                </a:lnTo>
                <a:lnTo>
                  <a:pt x="0" y="91082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6" name=""/>
          <p:cNvSpPr/>
          <p:nvPr/>
        </p:nvSpPr>
        <p:spPr>
          <a:xfrm>
            <a:off x="3608280" y="2976480"/>
            <a:ext cx="195480" cy="195480"/>
          </a:xfrm>
          <a:prstGeom prst="triangle">
            <a:avLst>
              <a:gd name="adj" fmla="val 100000"/>
            </a:avLst>
          </a:prstGeom>
          <a:solidFill>
            <a:srgbClr val="d34817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4151520" y="2745360"/>
            <a:ext cx="691920" cy="1150920"/>
          </a:xfrm>
          <a:custGeom>
            <a:avLst/>
            <a:gdLst/>
            <a:ahLst/>
            <a:rect l="l" t="t" r="r" b="b"/>
            <a:pathLst>
              <a:path w="692150" h="1150937">
                <a:moveTo>
                  <a:pt x="0" y="0"/>
                </a:moveTo>
                <a:lnTo>
                  <a:pt x="111505" y="0"/>
                </a:lnTo>
                <a:lnTo>
                  <a:pt x="111505" y="1039362"/>
                </a:lnTo>
                <a:lnTo>
                  <a:pt x="692150" y="1039362"/>
                </a:lnTo>
                <a:lnTo>
                  <a:pt x="692150" y="1150937"/>
                </a:lnTo>
                <a:lnTo>
                  <a:pt x="0" y="1150937"/>
                </a:lnTo>
                <a:lnTo>
                  <a:pt x="0" y="0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d348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"/>
          <p:cNvSpPr/>
          <p:nvPr/>
        </p:nvSpPr>
        <p:spPr>
          <a:xfrm>
            <a:off x="4005360" y="3084480"/>
            <a:ext cx="1104840" cy="911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t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4 котельных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129 млн.руб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9" name=""/>
          <p:cNvSpPr/>
          <p:nvPr/>
        </p:nvSpPr>
        <p:spPr>
          <a:xfrm>
            <a:off x="4879800" y="2660760"/>
            <a:ext cx="196920" cy="196920"/>
          </a:xfrm>
          <a:prstGeom prst="triangle">
            <a:avLst>
              <a:gd name="adj" fmla="val 100000"/>
            </a:avLst>
          </a:prstGeom>
          <a:solidFill>
            <a:srgbClr val="d34817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0" name=""/>
          <p:cNvSpPr/>
          <p:nvPr/>
        </p:nvSpPr>
        <p:spPr>
          <a:xfrm rot="5400000">
            <a:off x="5424840" y="2431080"/>
            <a:ext cx="691920" cy="1150920"/>
          </a:xfrm>
          <a:custGeom>
            <a:avLst/>
            <a:gdLst/>
            <a:ahLst/>
            <a:rect l="l" t="t" r="r" b="b"/>
            <a:pathLst>
              <a:path w="692150" h="1150937">
                <a:moveTo>
                  <a:pt x="0" y="0"/>
                </a:moveTo>
                <a:lnTo>
                  <a:pt x="111505" y="0"/>
                </a:lnTo>
                <a:lnTo>
                  <a:pt x="111505" y="1039362"/>
                </a:lnTo>
                <a:lnTo>
                  <a:pt x="692150" y="1039362"/>
                </a:lnTo>
                <a:lnTo>
                  <a:pt x="692150" y="1150937"/>
                </a:lnTo>
                <a:lnTo>
                  <a:pt x="0" y="1150937"/>
                </a:lnTo>
                <a:lnTo>
                  <a:pt x="0" y="0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d348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1" name=""/>
          <p:cNvSpPr/>
          <p:nvPr/>
        </p:nvSpPr>
        <p:spPr>
          <a:xfrm>
            <a:off x="5310360" y="2774880"/>
            <a:ext cx="1037880" cy="911160"/>
          </a:xfrm>
          <a:custGeom>
            <a:avLst/>
            <a:gdLst/>
            <a:ahLst/>
            <a:rect l="l" t="t" r="r" b="b"/>
            <a:pathLst>
              <a:path w="1039095" h="910828">
                <a:moveTo>
                  <a:pt x="0" y="0"/>
                </a:moveTo>
                <a:lnTo>
                  <a:pt x="1039095" y="0"/>
                </a:lnTo>
                <a:lnTo>
                  <a:pt x="1039095" y="910828"/>
                </a:lnTo>
                <a:lnTo>
                  <a:pt x="0" y="91082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"/>
          <p:cNvSpPr/>
          <p:nvPr/>
        </p:nvSpPr>
        <p:spPr>
          <a:xfrm>
            <a:off x="6153120" y="2346480"/>
            <a:ext cx="195120" cy="196560"/>
          </a:xfrm>
          <a:prstGeom prst="triangle">
            <a:avLst>
              <a:gd name="adj" fmla="val 100000"/>
            </a:avLst>
          </a:prstGeom>
          <a:solidFill>
            <a:srgbClr val="d34817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"/>
          <p:cNvSpPr/>
          <p:nvPr/>
        </p:nvSpPr>
        <p:spPr>
          <a:xfrm rot="5400000">
            <a:off x="6696360" y="2116800"/>
            <a:ext cx="691920" cy="1150920"/>
          </a:xfrm>
          <a:custGeom>
            <a:avLst/>
            <a:gdLst/>
            <a:ahLst/>
            <a:rect l="l" t="t" r="r" b="b"/>
            <a:pathLst>
              <a:path w="692150" h="1150938">
                <a:moveTo>
                  <a:pt x="0" y="0"/>
                </a:moveTo>
                <a:lnTo>
                  <a:pt x="111505" y="0"/>
                </a:lnTo>
                <a:lnTo>
                  <a:pt x="111505" y="1039363"/>
                </a:lnTo>
                <a:lnTo>
                  <a:pt x="692150" y="1039363"/>
                </a:lnTo>
                <a:lnTo>
                  <a:pt x="692150" y="1150938"/>
                </a:lnTo>
                <a:lnTo>
                  <a:pt x="0" y="1150938"/>
                </a:lnTo>
                <a:lnTo>
                  <a:pt x="0" y="0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d348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4" name=""/>
          <p:cNvSpPr/>
          <p:nvPr/>
        </p:nvSpPr>
        <p:spPr>
          <a:xfrm>
            <a:off x="6581880" y="2460600"/>
            <a:ext cx="1038240" cy="909720"/>
          </a:xfrm>
          <a:custGeom>
            <a:avLst/>
            <a:gdLst/>
            <a:ahLst/>
            <a:rect l="l" t="t" r="r" b="b"/>
            <a:pathLst>
              <a:path w="1039095" h="910828">
                <a:moveTo>
                  <a:pt x="0" y="0"/>
                </a:moveTo>
                <a:lnTo>
                  <a:pt x="1039095" y="0"/>
                </a:lnTo>
                <a:lnTo>
                  <a:pt x="1039095" y="910828"/>
                </a:lnTo>
                <a:lnTo>
                  <a:pt x="0" y="91082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5" name=""/>
          <p:cNvSpPr/>
          <p:nvPr/>
        </p:nvSpPr>
        <p:spPr>
          <a:xfrm>
            <a:off x="7424640" y="2031840"/>
            <a:ext cx="195480" cy="195480"/>
          </a:xfrm>
          <a:prstGeom prst="triangle">
            <a:avLst>
              <a:gd name="adj" fmla="val 100000"/>
            </a:avLst>
          </a:prstGeom>
          <a:solidFill>
            <a:srgbClr val="d34817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"/>
          <p:cNvSpPr/>
          <p:nvPr/>
        </p:nvSpPr>
        <p:spPr>
          <a:xfrm>
            <a:off x="7853400" y="2146320"/>
            <a:ext cx="1039680" cy="909720"/>
          </a:xfrm>
          <a:custGeom>
            <a:avLst/>
            <a:gdLst/>
            <a:ahLst/>
            <a:rect l="l" t="t" r="r" b="b"/>
            <a:pathLst>
              <a:path w="1039095" h="910828">
                <a:moveTo>
                  <a:pt x="0" y="0"/>
                </a:moveTo>
                <a:lnTo>
                  <a:pt x="1039095" y="0"/>
                </a:lnTo>
                <a:lnTo>
                  <a:pt x="1039095" y="910828"/>
                </a:lnTo>
                <a:lnTo>
                  <a:pt x="0" y="91082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09440" y="1487520"/>
            <a:ext cx="8925120" cy="397512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9" name="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1" name=""/>
          <p:cNvSpPr/>
          <p:nvPr/>
        </p:nvSpPr>
        <p:spPr>
          <a:xfrm>
            <a:off x="61272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7446960" y="1125360"/>
            <a:ext cx="1297080" cy="13050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1476360" y="3059280"/>
            <a:ext cx="14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22 - 2023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3635280" y="26496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24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5" name=""/>
          <p:cNvSpPr/>
          <p:nvPr/>
        </p:nvSpPr>
        <p:spPr>
          <a:xfrm>
            <a:off x="6156360" y="2060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26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>
            <a:off x="291960" y="5364000"/>
            <a:ext cx="8607600" cy="9702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108000" y="190440"/>
            <a:ext cx="7272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e3611"/>
                </a:solidFill>
                <a:latin typeface="Cambria"/>
              </a:rPr>
              <a:t>Мероприятия по реконструкции тепловых сетей при условии реализации инвестиционной программы на базе МП «ККТС», 4 год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250920" y="189000"/>
            <a:ext cx="8678880" cy="86364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mbria"/>
              </a:rPr>
              <a:t>Удельный расход условного топлива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Cambria"/>
              </a:rPr>
              <a:t>на отпуск тепловой энергии, кг.у.т./Гкал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26880" y="6021360"/>
            <a:ext cx="8428320" cy="620640"/>
            <a:chOff x="326880" y="6021360"/>
            <a:chExt cx="8428320" cy="620640"/>
          </a:xfrm>
        </p:grpSpPr>
        <p:sp>
          <p:nvSpPr>
            <p:cNvPr id="310" name=""/>
            <p:cNvSpPr/>
            <p:nvPr/>
          </p:nvSpPr>
          <p:spPr>
            <a:xfrm>
              <a:off x="326880" y="6021360"/>
              <a:ext cx="8428320" cy="620640"/>
            </a:xfrm>
            <a:prstGeom prst="roundRect">
              <a:avLst>
                <a:gd name="adj" fmla="val 16667"/>
              </a:avLst>
            </a:prstGeom>
            <a:solidFill>
              <a:srgbClr val="d3481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57120" y="6051600"/>
              <a:ext cx="83678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Cambria"/>
                </a:rPr>
                <a:t>Целевой показатель: </a:t>
              </a:r>
              <a:endParaRPr b="0" lang="en-US" sz="1600" spc="-1" strike="noStrike">
                <a:solidFill>
                  <a:srgbClr val="000000"/>
                </a:solidFill>
                <a:latin typeface="Perpetua"/>
              </a:endParaRPr>
            </a:p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Cambria"/>
                </a:rPr>
                <a:t>сокращение удельного расхода условного топлива с 166 до 157,7 кг.у.т./Гкал</a:t>
              </a:r>
              <a:endParaRPr b="0" lang="en-US" sz="16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09440" y="1127160"/>
            <a:ext cx="8925120" cy="4889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5T05:01:46Z</dcterms:created>
  <dc:creator>Максим</dc:creator>
  <dc:description/>
  <dc:language>en-US</dc:language>
  <cp:lastModifiedBy>пользователь</cp:lastModifiedBy>
  <cp:lastPrinted>2022-05-30T10:22:39Z</cp:lastPrinted>
  <dcterms:modified xsi:type="dcterms:W3CDTF">2022-05-30T10:28:31Z</dcterms:modified>
  <cp:revision>146</cp:revision>
  <dc:subject/>
  <dc:title>АКТУАЛИЗАЦИЯ СХЕМЫ ТЕПЛОСНАБЖЕНИЯ муниципального образования «города Новошахтинск» до 2031 года</dc:title>
</cp:coreProperties>
</file>