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2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0DE66-9186-4FBF-8414-013037B811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47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D7C39-94FF-4FA3-97C8-C2AFBE783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636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4AC09-CDF5-4007-9D02-4703EFAC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04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6932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04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6932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CFE65-9B46-4B6D-A274-D0F8C2A055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3E8569-6490-41BD-B1CF-CEABC44388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A4FA8A-8BB0-4EA4-AC45-BD72603A4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16FCF2-119E-4ACD-BAC8-EF4C361AE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39B478-A064-4A31-A3A5-B10B43044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A3F8FF-62B7-4CAC-99B3-A4E19C75B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400" y="274680"/>
            <a:ext cx="7770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5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0CB187-1FE9-46A0-BFFD-A28C9EEE9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C0B467-6F6B-44E7-9F5B-D690C5D0A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7B585-8C4C-49DE-A45A-AD9BB9C3C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9636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73C416-0282-4648-97AB-B5FEA06BE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B049FF-0AFF-4AD6-9B84-4C7858970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38347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52145F-A359-4C86-A529-37BFE2808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9636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D37C0A-EA40-428B-9D54-4B8B4FEE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204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6932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204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6932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7713B6-ABF6-4B45-930C-E753EA892C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B5C04-1F2C-4773-9F47-FB1A352F45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3E012-68CB-4D66-AA9D-FF6782766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56EC5-C85A-4C85-A3A5-9A1B9267B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5CE62-2799-48DD-982B-B08C5CA73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B6834-0058-4CCA-B201-A15DDCD0B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4E2ED-A69D-4726-94F3-DCCB8FAF8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4400" y="274680"/>
            <a:ext cx="7770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5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42A61-7773-4F31-BC3E-11B902B12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C2AEF-1517-493E-B413-E56C2FDC1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9636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0DC12-0665-49E0-A325-A5DB349F2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C3FA0-F8D7-480B-9562-163414F25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4400" y="38347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DAC96-21B2-4682-A4E1-13648A41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9636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A9BB3-23E5-461D-BEC6-EF9EAD1F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4204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6932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440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4204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6932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85B04-601C-4AA5-BA3D-EBFEF63D86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70A75F-9F0D-43E0-BB14-31C477CF62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7B06B3-B3C9-4613-96DC-7AB27F703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455A40-A58C-4B58-A2FB-5B599A7A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6E204-8A91-4B2C-A6A3-E7830F062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A2E91D-2AB9-4F98-AA2E-9F74D1EE3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AC26D9-1D2C-4335-8193-A2C162827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914400" y="274680"/>
            <a:ext cx="7770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5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1CD63E-4377-4DFC-B1B2-0C1599AD2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E4C780-9C20-4FAE-997E-CD5EAACE8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89636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250EDF-E661-4BD1-BC71-D7A99398C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F0DD63-B47A-4270-8746-4A4FC60C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914400" y="38347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CB49B0-304A-47A9-AB42-B296B1C72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89636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BC14D8-C26D-41A0-88DD-62FD265C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54204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16932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91440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54204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16932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1142D7-DE13-4BE1-9299-38B45B3C3E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4F8F5E-5D8B-4037-B3B6-8AE87FFE99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18C0E-F1FC-4769-9404-2CB2F48F3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76FF3B-C0B6-4B03-AE3B-8063530E7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963A54-6203-4A6D-85D4-8336FD4A0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EAFCF7-6A9E-4AA4-93DD-509D77E0E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E74862-A74D-4AD5-B7AF-79EAF5414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14400" y="274680"/>
            <a:ext cx="7770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5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9288FB-2FEF-41E4-AADE-CA29F7531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E1CF14-01BC-4093-995F-A61992459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89636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359DDA-C366-4481-80B2-F8831836C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18CF9C-288A-425C-912B-0A230E097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914400" y="38347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B3FDC2-4581-417B-9297-FA94678D7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89636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520172-3BE9-48CE-8847-13BD793B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680"/>
            <a:ext cx="7770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5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7871D-B58F-425E-854D-2F538C018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4204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6932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91440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4204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6932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8B2043-5AAF-4BC6-B28B-FC101AD73F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9836E-23D6-46EE-97F3-771DD9EC9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636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08D5A-34A4-4AB2-BD89-E47EE729F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4D4CD-CE68-4743-B0DB-0582CC985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1280"/>
            <a:ext cx="2475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212400" y="6276600"/>
            <a:ext cx="322200" cy="3222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4198CDC-6A4D-4C69-B4D9-B400334AC807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" name="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3"/>
          </p:nvPr>
        </p:nvSpPr>
        <p:spPr>
          <a:xfrm>
            <a:off x="6171840" y="6191280"/>
            <a:ext cx="2475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212400" y="6276600"/>
            <a:ext cx="322200" cy="3222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AD20F0A-0C6E-46E9-B864-30C19A2C7186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2" name="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66600" y="66600"/>
            <a:ext cx="9015480" cy="6697800"/>
            <a:chOff x="66600" y="66600"/>
            <a:chExt cx="9015480" cy="6697800"/>
          </a:xfrm>
        </p:grpSpPr>
        <p:pic>
          <p:nvPicPr>
            <p:cNvPr id="95" name="" descr=""/>
            <p:cNvPicPr/>
            <p:nvPr/>
          </p:nvPicPr>
          <p:blipFill>
            <a:blip r:embed="rId2"/>
            <a:stretch/>
          </p:blipFill>
          <p:spPr>
            <a:xfrm>
              <a:off x="66600" y="66600"/>
              <a:ext cx="9015480" cy="669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62000" y="166680"/>
              <a:ext cx="8818560" cy="64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7" name="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9" name="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5"/>
          </p:nvPr>
        </p:nvSpPr>
        <p:spPr>
          <a:xfrm>
            <a:off x="6171840" y="6191280"/>
            <a:ext cx="2475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sldNum" idx="6"/>
          </p:nvPr>
        </p:nvSpPr>
        <p:spPr>
          <a:xfrm>
            <a:off x="212400" y="6275160"/>
            <a:ext cx="322200" cy="3222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37DCFA3-141D-43CF-AF1C-4955DF6B8BB5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2" name="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4" name="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7"/>
          </p:nvPr>
        </p:nvSpPr>
        <p:spPr>
          <a:xfrm>
            <a:off x="6171840" y="6191280"/>
            <a:ext cx="2475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Num" idx="8"/>
          </p:nvPr>
        </p:nvSpPr>
        <p:spPr>
          <a:xfrm>
            <a:off x="212400" y="6276600"/>
            <a:ext cx="322200" cy="3222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A72C919-F94D-4A98-A9F6-F50166081C12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0" name="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9"/>
          </p:nvPr>
        </p:nvSpPr>
        <p:spPr>
          <a:xfrm>
            <a:off x="6171840" y="6191280"/>
            <a:ext cx="2475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1440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10"/>
          </p:nvPr>
        </p:nvSpPr>
        <p:spPr>
          <a:xfrm>
            <a:off x="212400" y="6275160"/>
            <a:ext cx="322200" cy="3222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62CC592-2CAE-4036-B990-4BC6626175E6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"/>
          <p:cNvGrpSpPr/>
          <p:nvPr/>
        </p:nvGrpSpPr>
        <p:grpSpPr>
          <a:xfrm>
            <a:off x="5529240" y="5815080"/>
            <a:ext cx="3411720" cy="749160"/>
            <a:chOff x="5529240" y="5815080"/>
            <a:chExt cx="3411720" cy="749160"/>
          </a:xfrm>
        </p:grpSpPr>
        <p:pic>
          <p:nvPicPr>
            <p:cNvPr id="233" name="" descr=""/>
            <p:cNvPicPr/>
            <p:nvPr/>
          </p:nvPicPr>
          <p:blipFill>
            <a:blip r:embed="rId1"/>
            <a:stretch/>
          </p:blipFill>
          <p:spPr>
            <a:xfrm>
              <a:off x="5529240" y="5815080"/>
              <a:ext cx="341172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5580000" y="5857920"/>
              <a:ext cx="33116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Cambria"/>
                  <a:ea typeface="Arial"/>
                </a:rPr>
                <a:t>Муниципальное предприятие  </a:t>
              </a:r>
              <a:endParaRPr b="0" lang="en-US" sz="1500" spc="-1" strike="noStrike">
                <a:solidFill>
                  <a:srgbClr val="000000"/>
                </a:solidFill>
                <a:latin typeface="Perpetua"/>
              </a:endParaRPr>
            </a:p>
            <a:p>
              <a:pPr algn="ctr">
                <a:lnSpc>
                  <a:spcPct val="9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Cambria"/>
                  <a:ea typeface="Arial"/>
                </a:rPr>
                <a:t>г. Новошахтинска МП «ККТС»</a:t>
              </a:r>
              <a:endParaRPr b="0" lang="en-US" sz="15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457200" y="1506600"/>
            <a:ext cx="82296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Cambria"/>
              </a:rPr>
              <a:t>АКТУАЛИЗАЦИЯ СХЕМЫ ТЕПЛОСНАБЖЕНИЯ</a:t>
            </a:r>
            <a:br>
              <a:rPr sz="2900"/>
            </a:b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 ГОРОДА НОВОШАХТИНСКА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на период до 2037 год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571920" y="3143160"/>
            <a:ext cx="1928880" cy="22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08000" y="189000"/>
            <a:ext cx="8928000" cy="79200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2556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mbria"/>
              </a:rPr>
              <a:t>Объем потерь при передаче тепловой энергии 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Cambria"/>
              </a:rPr>
              <a:t>от котельных МП «ККТС», Гкал/год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328680" y="6059520"/>
            <a:ext cx="8461440" cy="70632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109440" y="1054080"/>
            <a:ext cx="8925120" cy="49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08000" y="189000"/>
            <a:ext cx="8928000" cy="57600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2556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Удельный расход электроэнергии, кВтч/Гкал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328680" y="6059520"/>
            <a:ext cx="8461440" cy="70632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109440" y="907920"/>
            <a:ext cx="8925120" cy="51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22400" y="1109520"/>
            <a:ext cx="3638520" cy="5145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285840" y="115920"/>
            <a:ext cx="8572320" cy="78588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2556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  <a:ea typeface="Arial"/>
              </a:rPr>
              <a:t>СУЩЕСТВУЮЩИЕ ПРОБЛЕМЫ СИСТЕМЫ ТЕПЛОСНАБЖЕНИЯ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mbria"/>
                <a:ea typeface="Arial"/>
              </a:rPr>
              <a:t>МП «ККТС»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3851280" y="1071720"/>
            <a:ext cx="5184720" cy="22860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4121280" y="3357720"/>
            <a:ext cx="405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mbria"/>
                <a:ea typeface="Times New Roman"/>
              </a:rPr>
              <a:t>Тепловая сеть от котельной по ул. Радио 84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1" name=""/>
          <p:cNvSpPr/>
          <p:nvPr/>
        </p:nvSpPr>
        <p:spPr>
          <a:xfrm>
            <a:off x="3819600" y="5962680"/>
            <a:ext cx="512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mbria"/>
                <a:ea typeface="Times New Roman"/>
              </a:rPr>
              <a:t>Угольная котельная по ул. Советской Конституции, 8-к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3811680" y="4005360"/>
            <a:ext cx="2608200" cy="19573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6410160" y="4005360"/>
            <a:ext cx="2608560" cy="19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379440" y="3935520"/>
            <a:ext cx="3960720" cy="26096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5472000" y="365040"/>
            <a:ext cx="3024360" cy="32241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311040" y="708120"/>
            <a:ext cx="4019760" cy="288108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272880" y="3417840"/>
            <a:ext cx="4011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mbria"/>
                <a:ea typeface="Times New Roman"/>
              </a:rPr>
              <a:t>Строительство БМК  ул. Пичугина, 20 Б, 2020 г.  </a:t>
            </a:r>
            <a:endParaRPr b="0" lang="en-US" sz="13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8" name=""/>
          <p:cNvSpPr/>
          <p:nvPr/>
        </p:nvSpPr>
        <p:spPr>
          <a:xfrm>
            <a:off x="4910040" y="3581280"/>
            <a:ext cx="4078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mbria"/>
                <a:ea typeface="Times New Roman"/>
              </a:rPr>
              <a:t>Строительство</a:t>
            </a:r>
            <a:r>
              <a:rPr b="1" lang="ru-RU" sz="1400" spc="-1" strike="noStrike">
                <a:solidFill>
                  <a:srgbClr val="d34817"/>
                </a:solidFill>
                <a:latin typeface="Cambria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Cambria"/>
                <a:ea typeface="Times New Roman"/>
              </a:rPr>
              <a:t>БМК  ул. Коперника, 8 В, 2020 г. </a:t>
            </a:r>
            <a:endParaRPr b="0" lang="en-US" sz="13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201600" y="6480"/>
            <a:ext cx="8739360" cy="803160"/>
            <a:chOff x="201600" y="6480"/>
            <a:chExt cx="8739360" cy="803160"/>
          </a:xfrm>
        </p:grpSpPr>
        <p:pic>
          <p:nvPicPr>
            <p:cNvPr id="250" name="" descr=""/>
            <p:cNvPicPr/>
            <p:nvPr/>
          </p:nvPicPr>
          <p:blipFill>
            <a:blip r:embed="rId4"/>
            <a:stretch/>
          </p:blipFill>
          <p:spPr>
            <a:xfrm>
              <a:off x="201600" y="6480"/>
              <a:ext cx="8739360" cy="80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324000" y="115920"/>
              <a:ext cx="8494560" cy="4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9144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Cambria"/>
                  <a:ea typeface="Arial"/>
                </a:rPr>
                <a:t>Применение новых технологий</a:t>
              </a:r>
              <a:endParaRPr b="0" lang="en-US" sz="20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pic>
        <p:nvPicPr>
          <p:cNvPr id="252" name="" descr=""/>
          <p:cNvPicPr/>
          <p:nvPr/>
        </p:nvPicPr>
        <p:blipFill>
          <a:blip r:embed="rId5"/>
          <a:stretch/>
        </p:blipFill>
        <p:spPr>
          <a:xfrm>
            <a:off x="5145120" y="3935520"/>
            <a:ext cx="3522600" cy="260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14200" y="214200"/>
            <a:ext cx="8786880" cy="98280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2556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mbria"/>
                <a:ea typeface="Arial"/>
              </a:rPr>
              <a:t>ПРЕДЛОЖЕНИЯ ПО АКТУАЛИЗАЦИИ СХЕМЫ ТЕПЛОСНАБЖЕНИЯ г. НОВОШАХТИНСКА до 2037 г.</a:t>
            </a:r>
            <a:endParaRPr b="0" lang="en-US" sz="25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4" name=""/>
          <p:cNvSpPr/>
          <p:nvPr/>
        </p:nvSpPr>
        <p:spPr>
          <a:xfrm>
            <a:off x="324000" y="1557360"/>
            <a:ext cx="8496000" cy="3456000"/>
          </a:xfrm>
          <a:prstGeom prst="rect">
            <a:avLst/>
          </a:prstGeom>
          <a:solidFill>
            <a:srgbClr val="ffffff"/>
          </a:solidFill>
          <a:ln w="381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Symbol" charset="2"/>
              <a:buChar char=""/>
              <a:tabLst>
                <a:tab algn="l" pos="981000"/>
                <a:tab algn="l" pos="1895400"/>
                <a:tab algn="l" pos="2809800"/>
                <a:tab algn="l" pos="3724200"/>
                <a:tab algn="l" pos="4638600"/>
                <a:tab algn="l" pos="5553000"/>
                <a:tab algn="l" pos="6467400"/>
                <a:tab algn="l" pos="7381800"/>
                <a:tab algn="l" pos="8296200"/>
                <a:tab algn="l" pos="9210600"/>
                <a:tab algn="l" pos="101250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Arial"/>
              </a:rPr>
              <a:t>Рассмотрен вариант развития системы теплоснабжения - при условии реализации инвестиционной программы на базе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343080" indent="-34164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81000"/>
                <a:tab algn="l" pos="1895400"/>
                <a:tab algn="l" pos="2809800"/>
                <a:tab algn="l" pos="3724200"/>
                <a:tab algn="l" pos="4638600"/>
                <a:tab algn="l" pos="5553000"/>
                <a:tab algn="l" pos="6467400"/>
                <a:tab algn="l" pos="7381800"/>
                <a:tab algn="l" pos="8296200"/>
                <a:tab algn="l" pos="9210600"/>
                <a:tab algn="l" pos="101250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Arial"/>
              </a:rPr>
              <a:t>МП «ККТС», срок реализации с 2022 г. по 2027 г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343080" indent="-34164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81000"/>
                <a:tab algn="l" pos="1895400"/>
                <a:tab algn="l" pos="2809800"/>
                <a:tab algn="l" pos="3724200"/>
                <a:tab algn="l" pos="4638600"/>
                <a:tab algn="l" pos="5553000"/>
                <a:tab algn="l" pos="6467400"/>
                <a:tab algn="l" pos="7381800"/>
                <a:tab algn="l" pos="8296200"/>
                <a:tab algn="l" pos="9210600"/>
                <a:tab algn="l" pos="101250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341280" indent="-3412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Symbol" charset="2"/>
              <a:buChar char=""/>
              <a:tabLst>
                <a:tab algn="l" pos="981000"/>
                <a:tab algn="l" pos="1895400"/>
                <a:tab algn="l" pos="2809800"/>
                <a:tab algn="l" pos="3724200"/>
                <a:tab algn="l" pos="4638600"/>
                <a:tab algn="l" pos="5553000"/>
                <a:tab algn="l" pos="6467400"/>
                <a:tab algn="l" pos="7381800"/>
                <a:tab algn="l" pos="8296200"/>
                <a:tab algn="l" pos="9210600"/>
                <a:tab algn="l" pos="101250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Arial"/>
              </a:rPr>
              <a:t>По котельным МП «ККТС» с 2022 откорректирован объем полезного отпуска (с учётом фактических данных за 3 предыдущих расчетных периодов регулирования)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14200" y="214200"/>
            <a:ext cx="8715600" cy="50004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2556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  <a:ea typeface="Arial"/>
              </a:rPr>
              <a:t>МЕРПОРИЯТИЯ  ПО МОДЕРНИЗАЦИИ ИСТОЧНИКОВ ТЕПЛОСНАБЖЕНИЯ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6" name=""/>
          <p:cNvSpPr/>
          <p:nvPr/>
        </p:nvSpPr>
        <p:spPr>
          <a:xfrm>
            <a:off x="285840" y="1000080"/>
            <a:ext cx="8572320" cy="5143680"/>
          </a:xfrm>
          <a:prstGeom prst="rect">
            <a:avLst/>
          </a:prstGeom>
          <a:solidFill>
            <a:srgbClr val="ffffff"/>
          </a:solidFill>
          <a:ln w="381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636480"/>
                <a:tab algn="l" pos="1550880"/>
                <a:tab algn="l" pos="2465280"/>
                <a:tab algn="l" pos="3379680"/>
                <a:tab algn="l" pos="4294080"/>
                <a:tab algn="l" pos="5208480"/>
                <a:tab algn="l" pos="6122880"/>
                <a:tab algn="l" pos="7037280"/>
                <a:tab algn="l" pos="7951680"/>
                <a:tab algn="l" pos="8866080"/>
                <a:tab algn="l" pos="97804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Модернизация оставшихся четырех угольных котельных переводом на природный газ с установкой автономных газовых модульных котельных.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636480"/>
                <a:tab algn="l" pos="1550880"/>
                <a:tab algn="l" pos="2465280"/>
                <a:tab algn="l" pos="3379680"/>
                <a:tab algn="l" pos="4294080"/>
                <a:tab algn="l" pos="5208480"/>
                <a:tab algn="l" pos="6122880"/>
                <a:tab algn="l" pos="7037280"/>
                <a:tab algn="l" pos="7951680"/>
                <a:tab algn="l" pos="8866080"/>
                <a:tab algn="l" pos="97804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636480"/>
                <a:tab algn="l" pos="1550880"/>
                <a:tab algn="l" pos="2465280"/>
                <a:tab algn="l" pos="3379680"/>
                <a:tab algn="l" pos="4294080"/>
                <a:tab algn="l" pos="5208480"/>
                <a:tab algn="l" pos="6122880"/>
                <a:tab algn="l" pos="7037280"/>
                <a:tab algn="l" pos="7951680"/>
                <a:tab algn="l" pos="8866080"/>
                <a:tab algn="l" pos="97804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Arial"/>
              </a:rPr>
              <a:t>При условии реализации инвестиционной программы на базе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144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636480"/>
                <a:tab algn="l" pos="1550880"/>
                <a:tab algn="l" pos="2465280"/>
                <a:tab algn="l" pos="3379680"/>
                <a:tab algn="l" pos="4294080"/>
                <a:tab algn="l" pos="5208480"/>
                <a:tab algn="l" pos="6122880"/>
                <a:tab algn="l" pos="7037280"/>
                <a:tab algn="l" pos="7951680"/>
                <a:tab algn="l" pos="8866080"/>
                <a:tab algn="l" pos="97804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Arial"/>
              </a:rPr>
              <a:t>МП «ККТС»: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d34817"/>
              </a:buClr>
              <a:buSzPct val="85000"/>
              <a:buFont typeface="Cambria"/>
              <a:buChar char="-"/>
              <a:tabLst>
                <a:tab algn="l" pos="636480"/>
                <a:tab algn="l" pos="1550880"/>
                <a:tab algn="l" pos="2465280"/>
                <a:tab algn="l" pos="3379680"/>
                <a:tab algn="l" pos="4294080"/>
                <a:tab algn="l" pos="5208480"/>
                <a:tab algn="l" pos="6122880"/>
                <a:tab algn="l" pos="7037280"/>
                <a:tab algn="l" pos="7951680"/>
                <a:tab algn="l" pos="8866080"/>
                <a:tab algn="l" pos="97804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Microsoft YaHei"/>
              </a:rPr>
              <a:t>модернизация 18 котельных с установкой блочно-модульных                                                                                                     котельных;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d34817"/>
              </a:buClr>
              <a:buSzPct val="85000"/>
              <a:buFont typeface="Cambria"/>
              <a:buChar char="-"/>
              <a:tabLst>
                <a:tab algn="l" pos="636480"/>
                <a:tab algn="l" pos="1550880"/>
                <a:tab algn="l" pos="2465280"/>
                <a:tab algn="l" pos="3379680"/>
                <a:tab algn="l" pos="4294080"/>
                <a:tab algn="l" pos="5208480"/>
                <a:tab algn="l" pos="6122880"/>
                <a:tab algn="l" pos="7037280"/>
                <a:tab algn="l" pos="7951680"/>
                <a:tab algn="l" pos="8866080"/>
                <a:tab algn="l" pos="97804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Microsoft YaHei"/>
              </a:rPr>
              <a:t>строительство 2 блочно-модульных котельных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343080" indent="-341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636480"/>
                <a:tab algn="l" pos="1550880"/>
                <a:tab algn="l" pos="2465280"/>
                <a:tab algn="l" pos="3379680"/>
                <a:tab algn="l" pos="4294080"/>
                <a:tab algn="l" pos="5208480"/>
                <a:tab algn="l" pos="6122880"/>
                <a:tab algn="l" pos="7037280"/>
                <a:tab algn="l" pos="7951680"/>
                <a:tab algn="l" pos="8866080"/>
                <a:tab algn="l" pos="97804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285840" y="142920"/>
            <a:ext cx="8572320" cy="44136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2556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  <a:ea typeface="Arial"/>
              </a:rPr>
              <a:t>МЕРПОРИЯТИЯ ПО МОДЕРНИЗАЦИИ ТЕПЛОВЫХ СЕТЕЙ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"/>
          <p:cNvSpPr/>
          <p:nvPr/>
        </p:nvSpPr>
        <p:spPr>
          <a:xfrm>
            <a:off x="285840" y="714240"/>
            <a:ext cx="8572320" cy="2067120"/>
          </a:xfrm>
          <a:prstGeom prst="rect">
            <a:avLst/>
          </a:prstGeom>
          <a:solidFill>
            <a:srgbClr val="ffffff"/>
          </a:solidFill>
          <a:ln w="381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mbria"/>
                <a:ea typeface="Arial"/>
              </a:rPr>
              <a:t>Реконструкция и строительство теплотрасс с применением труб в ППУ-изоляци при условии реализации инвестиционной программы на базе МП «ККТС». Строительство - 1094 тр.м., реконструкция – 2560 тр.м.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mbria"/>
                <a:ea typeface="Arial"/>
              </a:rPr>
              <a:t>Сокращение диаметров теплотрасс  за счет сокращения радиуса теплоснабжения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marL="271440" indent="-271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1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9" name=""/>
          <p:cNvSpPr/>
          <p:nvPr/>
        </p:nvSpPr>
        <p:spPr>
          <a:xfrm>
            <a:off x="285840" y="3141720"/>
            <a:ext cx="2576520" cy="34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255600" y="3062160"/>
            <a:ext cx="2773440" cy="3508560"/>
          </a:xfrm>
          <a:prstGeom prst="rect">
            <a:avLst/>
          </a:prstGeom>
          <a:ln w="12600">
            <a:solidFill>
              <a:srgbClr val="d34817"/>
            </a:solidFill>
            <a:miter/>
          </a:ln>
        </p:spPr>
      </p:pic>
      <p:sp>
        <p:nvSpPr>
          <p:cNvPr id="261" name=""/>
          <p:cNvSpPr/>
          <p:nvPr/>
        </p:nvSpPr>
        <p:spPr>
          <a:xfrm>
            <a:off x="3418920" y="6424560"/>
            <a:ext cx="21999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mbria"/>
                <a:ea typeface="Times New Roman"/>
              </a:rPr>
              <a:t>Трубы в ППУ-изоляции</a:t>
            </a:r>
            <a:endParaRPr b="0" lang="en-US" sz="13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3348000" y="2913120"/>
            <a:ext cx="5472000" cy="355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4" name="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5" name="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6" name=""/>
          <p:cNvSpPr/>
          <p:nvPr/>
        </p:nvSpPr>
        <p:spPr>
          <a:xfrm>
            <a:off x="612720" y="3128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7661160" y="1055520"/>
            <a:ext cx="1297080" cy="12956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291960" y="5297400"/>
            <a:ext cx="8607600" cy="11034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155520" y="190440"/>
            <a:ext cx="72691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9e3611"/>
                </a:solidFill>
                <a:latin typeface="Cambria"/>
              </a:rPr>
              <a:t>Мероприятия по строительству, реконструкции и техническому перевооружению котельных при условии реализации инвестиционной программы на базе МП «ККТС», 6 лет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0" name=""/>
          <p:cNvSpPr/>
          <p:nvPr/>
        </p:nvSpPr>
        <p:spPr>
          <a:xfrm>
            <a:off x="971640" y="3240000"/>
            <a:ext cx="14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022 - 2023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1" name=""/>
          <p:cNvSpPr/>
          <p:nvPr/>
        </p:nvSpPr>
        <p:spPr>
          <a:xfrm>
            <a:off x="2646360" y="2928960"/>
            <a:ext cx="131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024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2" name=""/>
          <p:cNvSpPr/>
          <p:nvPr/>
        </p:nvSpPr>
        <p:spPr>
          <a:xfrm>
            <a:off x="3941640" y="260820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025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3" name=""/>
          <p:cNvSpPr/>
          <p:nvPr/>
        </p:nvSpPr>
        <p:spPr>
          <a:xfrm>
            <a:off x="5189400" y="228132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026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4" name=""/>
          <p:cNvSpPr/>
          <p:nvPr/>
        </p:nvSpPr>
        <p:spPr>
          <a:xfrm>
            <a:off x="6456240" y="197820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027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4265640"/>
            <a:ext cx="1106640" cy="11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6" name=""/>
          <p:cNvSpPr/>
          <p:nvPr/>
        </p:nvSpPr>
        <p:spPr>
          <a:xfrm>
            <a:off x="1106640" y="3726000"/>
            <a:ext cx="1353960" cy="13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68760" bIns="68760" anchor="t">
            <a:noAutofit/>
          </a:bodyPr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3 котельных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20 млн.руб.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7" name=""/>
          <p:cNvSpPr/>
          <p:nvPr/>
        </p:nvSpPr>
        <p:spPr>
          <a:xfrm>
            <a:off x="2703600" y="3382920"/>
            <a:ext cx="118584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68760" bIns="68760" anchor="t">
            <a:noAutofit/>
          </a:bodyPr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7 котельных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193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млн.руб.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8" name=""/>
          <p:cNvSpPr/>
          <p:nvPr/>
        </p:nvSpPr>
        <p:spPr>
          <a:xfrm>
            <a:off x="5235480" y="2759040"/>
            <a:ext cx="118584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68760" bIns="68760" anchor="t">
            <a:noAutofit/>
          </a:bodyPr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4 котельных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142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млн.руб.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9" name=""/>
          <p:cNvSpPr/>
          <p:nvPr/>
        </p:nvSpPr>
        <p:spPr>
          <a:xfrm>
            <a:off x="6499080" y="2478240"/>
            <a:ext cx="1185840" cy="13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68760" bIns="68760" anchor="t">
            <a:noAutofit/>
          </a:bodyPr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2 котельные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млн.руб.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0" name=""/>
          <p:cNvSpPr/>
          <p:nvPr/>
        </p:nvSpPr>
        <p:spPr>
          <a:xfrm>
            <a:off x="235080" y="4216320"/>
            <a:ext cx="1039680" cy="911160"/>
          </a:xfrm>
          <a:custGeom>
            <a:avLst/>
            <a:gdLst/>
            <a:ahLst/>
            <a:rect l="l" t="t" r="r" b="b"/>
            <a:pathLst>
              <a:path w="1039095" h="910828">
                <a:moveTo>
                  <a:pt x="0" y="0"/>
                </a:moveTo>
                <a:lnTo>
                  <a:pt x="1039095" y="0"/>
                </a:lnTo>
                <a:lnTo>
                  <a:pt x="1039095" y="910828"/>
                </a:lnTo>
                <a:lnTo>
                  <a:pt x="0" y="91082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1" name=""/>
          <p:cNvSpPr/>
          <p:nvPr/>
        </p:nvSpPr>
        <p:spPr>
          <a:xfrm rot="5400000">
            <a:off x="1405440" y="3170880"/>
            <a:ext cx="690840" cy="1558800"/>
          </a:xfrm>
          <a:custGeom>
            <a:avLst/>
            <a:gdLst/>
            <a:ahLst/>
            <a:rect l="l" t="t" r="r" b="b"/>
            <a:pathLst>
              <a:path w="690562" h="1558925">
                <a:moveTo>
                  <a:pt x="0" y="0"/>
                </a:moveTo>
                <a:lnTo>
                  <a:pt x="111250" y="0"/>
                </a:lnTo>
                <a:lnTo>
                  <a:pt x="111250" y="1447606"/>
                </a:lnTo>
                <a:lnTo>
                  <a:pt x="690562" y="1447606"/>
                </a:lnTo>
                <a:lnTo>
                  <a:pt x="690562" y="1558925"/>
                </a:lnTo>
                <a:lnTo>
                  <a:pt x="0" y="1558925"/>
                </a:lnTo>
                <a:lnTo>
                  <a:pt x="0" y="0"/>
                </a:lnTo>
                <a:close/>
              </a:path>
            </a:pathLst>
          </a:custGeom>
          <a:solidFill>
            <a:srgbClr val="d34817"/>
          </a:solidFill>
          <a:ln w="12600">
            <a:solidFill>
              <a:srgbClr val="d348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2" name=""/>
          <p:cNvSpPr/>
          <p:nvPr/>
        </p:nvSpPr>
        <p:spPr>
          <a:xfrm>
            <a:off x="1492200" y="3719520"/>
            <a:ext cx="1040040" cy="909720"/>
          </a:xfrm>
          <a:custGeom>
            <a:avLst/>
            <a:gdLst/>
            <a:ahLst/>
            <a:rect l="l" t="t" r="r" b="b"/>
            <a:pathLst>
              <a:path w="1039095" h="910828">
                <a:moveTo>
                  <a:pt x="0" y="0"/>
                </a:moveTo>
                <a:lnTo>
                  <a:pt x="1039095" y="0"/>
                </a:lnTo>
                <a:lnTo>
                  <a:pt x="1039095" y="910828"/>
                </a:lnTo>
                <a:lnTo>
                  <a:pt x="0" y="91082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3" name=""/>
          <p:cNvSpPr/>
          <p:nvPr/>
        </p:nvSpPr>
        <p:spPr>
          <a:xfrm>
            <a:off x="2336760" y="3290760"/>
            <a:ext cx="195480" cy="195480"/>
          </a:xfrm>
          <a:prstGeom prst="triangle">
            <a:avLst>
              <a:gd name="adj" fmla="val 100000"/>
            </a:avLst>
          </a:prstGeom>
          <a:solidFill>
            <a:srgbClr val="d34817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4" name=""/>
          <p:cNvSpPr/>
          <p:nvPr/>
        </p:nvSpPr>
        <p:spPr>
          <a:xfrm rot="5400000">
            <a:off x="2880720" y="3062160"/>
            <a:ext cx="690480" cy="1150920"/>
          </a:xfrm>
          <a:custGeom>
            <a:avLst/>
            <a:gdLst/>
            <a:ahLst/>
            <a:rect l="l" t="t" r="r" b="b"/>
            <a:pathLst>
              <a:path w="690562" h="1150938">
                <a:moveTo>
                  <a:pt x="0" y="0"/>
                </a:moveTo>
                <a:lnTo>
                  <a:pt x="111250" y="0"/>
                </a:lnTo>
                <a:lnTo>
                  <a:pt x="111250" y="1039619"/>
                </a:lnTo>
                <a:lnTo>
                  <a:pt x="690562" y="1039619"/>
                </a:lnTo>
                <a:lnTo>
                  <a:pt x="690562" y="1150938"/>
                </a:lnTo>
                <a:lnTo>
                  <a:pt x="0" y="1150938"/>
                </a:lnTo>
                <a:lnTo>
                  <a:pt x="0" y="0"/>
                </a:lnTo>
                <a:close/>
              </a:path>
            </a:pathLst>
          </a:custGeom>
          <a:solidFill>
            <a:srgbClr val="d34817"/>
          </a:solidFill>
          <a:ln w="12600">
            <a:solidFill>
              <a:srgbClr val="d348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5" name=""/>
          <p:cNvSpPr/>
          <p:nvPr/>
        </p:nvSpPr>
        <p:spPr>
          <a:xfrm>
            <a:off x="2765520" y="3405240"/>
            <a:ext cx="1038240" cy="909720"/>
          </a:xfrm>
          <a:custGeom>
            <a:avLst/>
            <a:gdLst/>
            <a:ahLst/>
            <a:rect l="l" t="t" r="r" b="b"/>
            <a:pathLst>
              <a:path w="1039095" h="910828">
                <a:moveTo>
                  <a:pt x="0" y="0"/>
                </a:moveTo>
                <a:lnTo>
                  <a:pt x="1039095" y="0"/>
                </a:lnTo>
                <a:lnTo>
                  <a:pt x="1039095" y="910828"/>
                </a:lnTo>
                <a:lnTo>
                  <a:pt x="0" y="91082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6" name=""/>
          <p:cNvSpPr/>
          <p:nvPr/>
        </p:nvSpPr>
        <p:spPr>
          <a:xfrm>
            <a:off x="3608280" y="2976480"/>
            <a:ext cx="195480" cy="195480"/>
          </a:xfrm>
          <a:prstGeom prst="triangle">
            <a:avLst>
              <a:gd name="adj" fmla="val 100000"/>
            </a:avLst>
          </a:prstGeom>
          <a:solidFill>
            <a:srgbClr val="d34817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7" name=""/>
          <p:cNvSpPr/>
          <p:nvPr/>
        </p:nvSpPr>
        <p:spPr>
          <a:xfrm rot="5400000">
            <a:off x="4151520" y="2745360"/>
            <a:ext cx="691920" cy="1150920"/>
          </a:xfrm>
          <a:custGeom>
            <a:avLst/>
            <a:gdLst/>
            <a:ahLst/>
            <a:rect l="l" t="t" r="r" b="b"/>
            <a:pathLst>
              <a:path w="692150" h="1150937">
                <a:moveTo>
                  <a:pt x="0" y="0"/>
                </a:moveTo>
                <a:lnTo>
                  <a:pt x="111505" y="0"/>
                </a:lnTo>
                <a:lnTo>
                  <a:pt x="111505" y="1039362"/>
                </a:lnTo>
                <a:lnTo>
                  <a:pt x="692150" y="1039362"/>
                </a:lnTo>
                <a:lnTo>
                  <a:pt x="692150" y="1150937"/>
                </a:lnTo>
                <a:lnTo>
                  <a:pt x="0" y="1150937"/>
                </a:lnTo>
                <a:lnTo>
                  <a:pt x="0" y="0"/>
                </a:lnTo>
                <a:close/>
              </a:path>
            </a:pathLst>
          </a:custGeom>
          <a:solidFill>
            <a:srgbClr val="d34817"/>
          </a:solidFill>
          <a:ln w="12600">
            <a:solidFill>
              <a:srgbClr val="d348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8" name=""/>
          <p:cNvSpPr/>
          <p:nvPr/>
        </p:nvSpPr>
        <p:spPr>
          <a:xfrm>
            <a:off x="4005360" y="3084480"/>
            <a:ext cx="1104840" cy="911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t">
            <a:noAutofit/>
          </a:bodyPr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4 котельных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129 млн.руб.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9" name=""/>
          <p:cNvSpPr/>
          <p:nvPr/>
        </p:nvSpPr>
        <p:spPr>
          <a:xfrm>
            <a:off x="4879800" y="2660760"/>
            <a:ext cx="196920" cy="196920"/>
          </a:xfrm>
          <a:prstGeom prst="triangle">
            <a:avLst>
              <a:gd name="adj" fmla="val 100000"/>
            </a:avLst>
          </a:prstGeom>
          <a:solidFill>
            <a:srgbClr val="d34817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0" name=""/>
          <p:cNvSpPr/>
          <p:nvPr/>
        </p:nvSpPr>
        <p:spPr>
          <a:xfrm rot="5400000">
            <a:off x="5424840" y="2431080"/>
            <a:ext cx="691920" cy="1150920"/>
          </a:xfrm>
          <a:custGeom>
            <a:avLst/>
            <a:gdLst/>
            <a:ahLst/>
            <a:rect l="l" t="t" r="r" b="b"/>
            <a:pathLst>
              <a:path w="692150" h="1150937">
                <a:moveTo>
                  <a:pt x="0" y="0"/>
                </a:moveTo>
                <a:lnTo>
                  <a:pt x="111505" y="0"/>
                </a:lnTo>
                <a:lnTo>
                  <a:pt x="111505" y="1039362"/>
                </a:lnTo>
                <a:lnTo>
                  <a:pt x="692150" y="1039362"/>
                </a:lnTo>
                <a:lnTo>
                  <a:pt x="692150" y="1150937"/>
                </a:lnTo>
                <a:lnTo>
                  <a:pt x="0" y="1150937"/>
                </a:lnTo>
                <a:lnTo>
                  <a:pt x="0" y="0"/>
                </a:lnTo>
                <a:close/>
              </a:path>
            </a:pathLst>
          </a:custGeom>
          <a:solidFill>
            <a:srgbClr val="d34817"/>
          </a:solidFill>
          <a:ln w="12600">
            <a:solidFill>
              <a:srgbClr val="d348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1" name=""/>
          <p:cNvSpPr/>
          <p:nvPr/>
        </p:nvSpPr>
        <p:spPr>
          <a:xfrm>
            <a:off x="5310360" y="2774880"/>
            <a:ext cx="1037880" cy="911160"/>
          </a:xfrm>
          <a:custGeom>
            <a:avLst/>
            <a:gdLst/>
            <a:ahLst/>
            <a:rect l="l" t="t" r="r" b="b"/>
            <a:pathLst>
              <a:path w="1039095" h="910828">
                <a:moveTo>
                  <a:pt x="0" y="0"/>
                </a:moveTo>
                <a:lnTo>
                  <a:pt x="1039095" y="0"/>
                </a:lnTo>
                <a:lnTo>
                  <a:pt x="1039095" y="910828"/>
                </a:lnTo>
                <a:lnTo>
                  <a:pt x="0" y="91082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2" name=""/>
          <p:cNvSpPr/>
          <p:nvPr/>
        </p:nvSpPr>
        <p:spPr>
          <a:xfrm>
            <a:off x="6153120" y="2346480"/>
            <a:ext cx="195120" cy="196560"/>
          </a:xfrm>
          <a:prstGeom prst="triangle">
            <a:avLst>
              <a:gd name="adj" fmla="val 100000"/>
            </a:avLst>
          </a:prstGeom>
          <a:solidFill>
            <a:srgbClr val="d34817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3" name=""/>
          <p:cNvSpPr/>
          <p:nvPr/>
        </p:nvSpPr>
        <p:spPr>
          <a:xfrm rot="5400000">
            <a:off x="6696360" y="2116800"/>
            <a:ext cx="691920" cy="1150920"/>
          </a:xfrm>
          <a:custGeom>
            <a:avLst/>
            <a:gdLst/>
            <a:ahLst/>
            <a:rect l="l" t="t" r="r" b="b"/>
            <a:pathLst>
              <a:path w="692150" h="1150938">
                <a:moveTo>
                  <a:pt x="0" y="0"/>
                </a:moveTo>
                <a:lnTo>
                  <a:pt x="111505" y="0"/>
                </a:lnTo>
                <a:lnTo>
                  <a:pt x="111505" y="1039363"/>
                </a:lnTo>
                <a:lnTo>
                  <a:pt x="692150" y="1039363"/>
                </a:lnTo>
                <a:lnTo>
                  <a:pt x="692150" y="1150938"/>
                </a:lnTo>
                <a:lnTo>
                  <a:pt x="0" y="1150938"/>
                </a:lnTo>
                <a:lnTo>
                  <a:pt x="0" y="0"/>
                </a:lnTo>
                <a:close/>
              </a:path>
            </a:pathLst>
          </a:custGeom>
          <a:solidFill>
            <a:srgbClr val="d34817"/>
          </a:solidFill>
          <a:ln w="12600">
            <a:solidFill>
              <a:srgbClr val="d348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4" name=""/>
          <p:cNvSpPr/>
          <p:nvPr/>
        </p:nvSpPr>
        <p:spPr>
          <a:xfrm>
            <a:off x="6581880" y="2460600"/>
            <a:ext cx="1038240" cy="909720"/>
          </a:xfrm>
          <a:custGeom>
            <a:avLst/>
            <a:gdLst/>
            <a:ahLst/>
            <a:rect l="l" t="t" r="r" b="b"/>
            <a:pathLst>
              <a:path w="1039095" h="910828">
                <a:moveTo>
                  <a:pt x="0" y="0"/>
                </a:moveTo>
                <a:lnTo>
                  <a:pt x="1039095" y="0"/>
                </a:lnTo>
                <a:lnTo>
                  <a:pt x="1039095" y="910828"/>
                </a:lnTo>
                <a:lnTo>
                  <a:pt x="0" y="91082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5" name=""/>
          <p:cNvSpPr/>
          <p:nvPr/>
        </p:nvSpPr>
        <p:spPr>
          <a:xfrm>
            <a:off x="7424640" y="2031840"/>
            <a:ext cx="195480" cy="195480"/>
          </a:xfrm>
          <a:prstGeom prst="triangle">
            <a:avLst>
              <a:gd name="adj" fmla="val 100000"/>
            </a:avLst>
          </a:prstGeom>
          <a:solidFill>
            <a:srgbClr val="d34817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6" name=""/>
          <p:cNvSpPr/>
          <p:nvPr/>
        </p:nvSpPr>
        <p:spPr>
          <a:xfrm>
            <a:off x="7853400" y="2146320"/>
            <a:ext cx="1039680" cy="909720"/>
          </a:xfrm>
          <a:custGeom>
            <a:avLst/>
            <a:gdLst/>
            <a:ahLst/>
            <a:rect l="l" t="t" r="r" b="b"/>
            <a:pathLst>
              <a:path w="1039095" h="910828">
                <a:moveTo>
                  <a:pt x="0" y="0"/>
                </a:moveTo>
                <a:lnTo>
                  <a:pt x="1039095" y="0"/>
                </a:lnTo>
                <a:lnTo>
                  <a:pt x="1039095" y="910828"/>
                </a:lnTo>
                <a:lnTo>
                  <a:pt x="0" y="91082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09440" y="1487520"/>
            <a:ext cx="8925120" cy="397512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9" name="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0" name="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1" name=""/>
          <p:cNvSpPr/>
          <p:nvPr/>
        </p:nvSpPr>
        <p:spPr>
          <a:xfrm>
            <a:off x="612720" y="3128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7446960" y="1125360"/>
            <a:ext cx="1297080" cy="130500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1476360" y="3059280"/>
            <a:ext cx="144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022 - 2023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3635280" y="26496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024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5" name=""/>
          <p:cNvSpPr/>
          <p:nvPr/>
        </p:nvSpPr>
        <p:spPr>
          <a:xfrm>
            <a:off x="6156360" y="2060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026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3"/>
          <a:stretch/>
        </p:blipFill>
        <p:spPr>
          <a:xfrm>
            <a:off x="291960" y="5364000"/>
            <a:ext cx="8607600" cy="97020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108000" y="190440"/>
            <a:ext cx="7272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9e3611"/>
                </a:solidFill>
                <a:latin typeface="Cambria"/>
              </a:rPr>
              <a:t>Мероприятия по реконструкции тепловых сетей при условии реализации инвестиционной программы на базе МП «ККТС», 4 год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250920" y="189000"/>
            <a:ext cx="8678880" cy="86364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2556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mbria"/>
              </a:rPr>
              <a:t>Удельный расход условного топлива 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Cambria"/>
              </a:rPr>
              <a:t>на отпуск тепловой энергии, кг.у.т./Гкал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26880" y="6021360"/>
            <a:ext cx="8428320" cy="620640"/>
            <a:chOff x="326880" y="6021360"/>
            <a:chExt cx="8428320" cy="620640"/>
          </a:xfrm>
        </p:grpSpPr>
        <p:sp>
          <p:nvSpPr>
            <p:cNvPr id="310" name=""/>
            <p:cNvSpPr/>
            <p:nvPr/>
          </p:nvSpPr>
          <p:spPr>
            <a:xfrm>
              <a:off x="326880" y="6021360"/>
              <a:ext cx="8428320" cy="620640"/>
            </a:xfrm>
            <a:prstGeom prst="roundRect">
              <a:avLst>
                <a:gd name="adj" fmla="val 16667"/>
              </a:avLst>
            </a:prstGeom>
            <a:solidFill>
              <a:srgbClr val="d3481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57120" y="6051600"/>
              <a:ext cx="836784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53280" bIns="53280" anchor="ctr">
              <a:no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Cambria"/>
                </a:rPr>
                <a:t>Целевой показатель: </a:t>
              </a:r>
              <a:endParaRPr b="0" lang="en-US" sz="1600" spc="-1" strike="noStrike">
                <a:solidFill>
                  <a:srgbClr val="000000"/>
                </a:solidFill>
                <a:latin typeface="Perpetua"/>
              </a:endParaRPr>
            </a:p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Cambria"/>
                </a:rPr>
                <a:t>сокращение удельного расхода условного топлива с 166 до 157,7 кг.у.т./Гкал</a:t>
              </a:r>
              <a:endParaRPr b="0" lang="en-US" sz="16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09440" y="1127160"/>
            <a:ext cx="8925120" cy="4889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5T05:01:46Z</dcterms:created>
  <dc:creator>Максим</dc:creator>
  <dc:description/>
  <dc:language>en-US</dc:language>
  <cp:lastModifiedBy>пользователь</cp:lastModifiedBy>
  <cp:lastPrinted>2022-05-30T10:22:39Z</cp:lastPrinted>
  <dcterms:modified xsi:type="dcterms:W3CDTF">2022-05-30T10:28:31Z</dcterms:modified>
  <cp:revision>146</cp:revision>
  <dc:subject/>
  <dc:title>АКТУАЛИЗАЦИЯ СХЕМЫ ТЕПЛОСНАБЖЕНИЯ муниципального образования «города Новошахтинск» до 2031 года</dc:title>
</cp:coreProperties>
</file>